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8.xml.rels" ContentType="application/vnd.openxmlformats-package.relationships+xml"/>
  <Override PartName="/ppt/notesSlides/notesSlide38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2926F-2EA6-4807-A34C-1174EFD8106C}" type="slidenum">
              <a:rPr b="0" lang="hr-HR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Svaki regexp se sastoji od niza podizraz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[Rr]eg[Ee]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[Rr] – prvi podizraz, ako postoji poklapanje na trenutnom mjestu u nizu, za sljedeći znak u nizu se provjerava podudaranje sa sljedećim podizrazo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e – ovo je isto podizraz, koji se podudara sa doslovnim slovom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g – ovo je isto podizraz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[Ee] – sljedeći podizra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x – posljednji podizra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Ukoliko se primijeti nepodudaranje, pokušava se sljedeća alternativa ukoliko postoji.  Ako su alternative iscrpljene, uparivanje počinje iznova od početka regexpa, i od sljedećeg znaka u nizu u odnosu na prethodni znak u nizu kod kojeg je počelo uparivanje.  Primjer, uparivanje niz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"razni regexpi" i regexpa "[Rr]eg[3Ee]x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Počinjemo s početkom regexpa i početkom niz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zraz [Rr] se uspješno uparuje sa "</a:t>
            </a:r>
            <a:r>
              <a:rPr b="1" lang="hr-HR" sz="1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". Prijelaz na sljedeći izraz, u spremniku ostaju "azni regexpi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zraz e se ne uparuje sa "a". S obzirom da nema alternativa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uparivanje kreće iznova, od drugog znaka u niz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zraz [Rr] se ne uparuje sa "</a:t>
            </a:r>
            <a:r>
              <a:rPr b="1" lang="hr-HR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". S obzirom da nema alternativa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uparivanje kreće iznova, od trećeg znaka u niz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zraz [Rr] se ne uparuje sa "</a:t>
            </a:r>
            <a:r>
              <a:rPr b="1" lang="hr-HR" sz="1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". [...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uparivanje kreće iznova, od sedmog znaka u niz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zraz [Rr] se uspješno uparuje sa "</a:t>
            </a:r>
            <a:r>
              <a:rPr b="1" lang="hr-HR" sz="1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". u spremniku ostaje "egexpi"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zraz e se uspješno uparuje sa "</a:t>
            </a:r>
            <a:r>
              <a:rPr b="1" lang="hr-HR" sz="1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". u spremniku ostaje "gexpi"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zraz g se uspješno uparuje sa "</a:t>
            </a:r>
            <a:r>
              <a:rPr b="1" lang="hr-HR" sz="12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". u spremniku ostaje "expi"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zraz [3Ee] se uspješno uparuje sa "</a:t>
            </a:r>
            <a:r>
              <a:rPr b="1" lang="hr-HR" sz="1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". u spremniku ostaje "xpi"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zraz x se uspješno uparuje sa "</a:t>
            </a:r>
            <a:r>
              <a:rPr b="1" lang="hr-HR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". u spremniku ostaje "pi"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Kraj regexpa, izraz je uspješno uparen sa podnizom "regex" unutar "razni </a:t>
            </a:r>
            <a:r>
              <a:rPr b="0" lang="hr-HR" sz="1200" spc="-1" strike="noStrike" u="sng">
                <a:solidFill>
                  <a:srgbClr val="000000"/>
                </a:solidFill>
                <a:uFillTx/>
                <a:latin typeface="Arial"/>
              </a:rPr>
              <a:t>regex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pi"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75518-2735-4EDA-9D02-2B4DF3B5D6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7F10E-0FE9-4FE9-89E4-FA0DF58384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F8A4D-44FF-4344-A014-CF51210F8D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E95F5-29A2-4E57-8596-705707F9A46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C2C3A-296A-42E8-B069-33F15985ECC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5A91A-682B-4464-B140-71884A4A2B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A8007-1C70-4FFE-857C-5041B6498D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AFDBF-3A21-4C86-8D97-E0D848E366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68360" y="259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2E402-6AB5-41F0-B030-4B322C61A6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AA3EE-5937-4CAA-AE5D-38576ADDF6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BD731-4D07-46E4-9B15-506BAEDC2F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BE265-FF1C-472A-9507-39A35C9BB1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>
            <a:lum bright="4000"/>
          </a:blip>
          <a:stretch/>
        </p:blipFill>
        <p:spPr>
          <a:xfrm>
            <a:off x="-968400" y="-1357200"/>
            <a:ext cx="4546800" cy="46861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355760" y="6431040"/>
            <a:ext cx="183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395280" y="6308640"/>
            <a:ext cx="835344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412920" y="6353280"/>
            <a:ext cx="917280" cy="31248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6614640" y="63532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C74B3-EB8F-4329-99EC-3D17E437C69B}" type="slidenum">
              <a:rPr b="1" i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sed.sf.net/" TargetMode="External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hyperlink" Target="http://regex.ifzg.hr/primjeri/mail.log" TargetMode="External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hyperlink" Target="mailto:korisnik@domena.hr" TargetMode="External"/><Relationship Id="rId2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hyperlink" Target="mailto:virusalert@po.os.carnet.hr" TargetMode="External"/><Relationship Id="rId2" Type="http://schemas.openxmlformats.org/officeDocument/2006/relationships/hyperlink" Target="mailto:virusalert@po.os.carnet.hr" TargetMode="External"/><Relationship Id="rId3" Type="http://schemas.openxmlformats.org/officeDocument/2006/relationships/hyperlink" Target="mailto:virusalert@po.os.carnet.hr" TargetMode="External"/><Relationship Id="rId4" Type="http://schemas.openxmlformats.org/officeDocument/2006/relationships/hyperlink" Target="mailto:relay%3Dsmmsp@localhost.os.carnet.hr" TargetMode="External"/><Relationship Id="rId5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hyperlink" Target="http://www.regular-expressions.info/quickstart.html" TargetMode="External"/><Relationship Id="rId2" Type="http://schemas.openxmlformats.org/officeDocument/2006/relationships/hyperlink" Target="http://www.regular-expressions.info/quickstart.html" TargetMode="External"/><Relationship Id="rId3" Type="http://schemas.openxmlformats.org/officeDocument/2006/relationships/hyperlink" Target="http://www.regular-expressions.info/quickstart.html" TargetMode="External"/><Relationship Id="rId4" Type="http://schemas.openxmlformats.org/officeDocument/2006/relationships/hyperlink" Target="http://www.regular-expressions.info/quickstart.html" TargetMode="External"/><Relationship Id="rId5" Type="http://schemas.openxmlformats.org/officeDocument/2006/relationships/hyperlink" Target="http://www.regular-expressions.info/quickstart.html" TargetMode="External"/><Relationship Id="rId6" Type="http://schemas.openxmlformats.org/officeDocument/2006/relationships/hyperlink" Target="http://www.regular-expressions.info/quickstart.html" TargetMode="External"/><Relationship Id="rId7" Type="http://schemas.openxmlformats.org/officeDocument/2006/relationships/hyperlink" Target="http://www.regular-expressions.info/quickstart.html" TargetMode="External"/><Relationship Id="rId8" Type="http://schemas.openxmlformats.org/officeDocument/2006/relationships/hyperlink" Target="http://www.regular-expressions.info/quickstart.html" TargetMode="External"/><Relationship Id="rId9" Type="http://schemas.openxmlformats.org/officeDocument/2006/relationships/hyperlink" Target="http://www.regular-expressions.info/quickstart.html" TargetMode="External"/><Relationship Id="rId10" Type="http://schemas.openxmlformats.org/officeDocument/2006/relationships/hyperlink" Target="http://en.wikipedia.org/wiki/Regular_expression" TargetMode="External"/><Relationship Id="rId11" Type="http://schemas.openxmlformats.org/officeDocument/2006/relationships/hyperlink" Target="http://en.wikipedia.org/wiki/Regular_expression" TargetMode="External"/><Relationship Id="rId12" Type="http://schemas.openxmlformats.org/officeDocument/2006/relationships/hyperlink" Target="http://en.wikipedia.org/wiki/Regular_expression" TargetMode="External"/><Relationship Id="rId13" Type="http://schemas.openxmlformats.org/officeDocument/2006/relationships/hyperlink" Target="http://en.wikipedia.org/wiki/Regular_expression" TargetMode="External"/><Relationship Id="rId14" Type="http://schemas.openxmlformats.org/officeDocument/2006/relationships/hyperlink" Target="http://en.wikipedia.org/wiki/Regular_expression" TargetMode="External"/><Relationship Id="rId15" Type="http://schemas.openxmlformats.org/officeDocument/2006/relationships/hyperlink" Target="http://en.wikipedia.org/wiki/Regular_expression" TargetMode="External"/><Relationship Id="rId16" Type="http://schemas.openxmlformats.org/officeDocument/2006/relationships/hyperlink" Target="http://en.wikipedia.org/wiki/Regular_expression" TargetMode="External"/><Relationship Id="rId17" Type="http://schemas.openxmlformats.org/officeDocument/2006/relationships/hyperlink" Target="http://en.wikipedia.org/wiki/Regular_expression" TargetMode="External"/><Relationship Id="rId18" Type="http://schemas.openxmlformats.org/officeDocument/2006/relationships/hyperlink" Target="http://en.wikipedia.org/wiki/Regular_expression" TargetMode="External"/><Relationship Id="rId19" Type="http://schemas.openxmlformats.org/officeDocument/2006/relationships/hyperlink" Target="http://en.wikipedia.org/wiki/Regular_expression" TargetMode="External"/><Relationship Id="rId20" Type="http://schemas.openxmlformats.org/officeDocument/2006/relationships/hyperlink" Target="http://sitescooper.org/tao_regexps.html" TargetMode="External"/><Relationship Id="rId21" Type="http://schemas.openxmlformats.org/officeDocument/2006/relationships/hyperlink" Target="http://sitescooper.org/tao_regexps.html" TargetMode="External"/><Relationship Id="rId22" Type="http://schemas.openxmlformats.org/officeDocument/2006/relationships/hyperlink" Target="http://sitescooper.org/tao_regexps.html" TargetMode="External"/><Relationship Id="rId23" Type="http://schemas.openxmlformats.org/officeDocument/2006/relationships/hyperlink" Target="http://sitescooper.org/tao_regexps.html" TargetMode="External"/><Relationship Id="rId24" Type="http://schemas.openxmlformats.org/officeDocument/2006/relationships/hyperlink" Target="http://sitescooper.org/tao_regexps.html" TargetMode="External"/><Relationship Id="rId25" Type="http://schemas.openxmlformats.org/officeDocument/2006/relationships/hyperlink" Target="http://sitescooper.org/tao_regexps.html" TargetMode="External"/><Relationship Id="rId26" Type="http://schemas.openxmlformats.org/officeDocument/2006/relationships/hyperlink" Target="http://sitescooper.org/tao_regexps.html" TargetMode="External"/><Relationship Id="rId27" Type="http://schemas.openxmlformats.org/officeDocument/2006/relationships/hyperlink" Target="http://sitescooper.org/tao_regexps.html" TargetMode="External"/><Relationship Id="rId28" Type="http://schemas.openxmlformats.org/officeDocument/2006/relationships/hyperlink" Target="http://sitescooper.org/tao_regexps.html" TargetMode="External"/><Relationship Id="rId29" Type="http://schemas.openxmlformats.org/officeDocument/2006/relationships/hyperlink" Target="http://www.amk.ca/python/howto/regex/" TargetMode="External"/><Relationship Id="rId30" Type="http://schemas.openxmlformats.org/officeDocument/2006/relationships/hyperlink" Target="http://www.amk.ca/python/howto/regex/" TargetMode="External"/><Relationship Id="rId31" Type="http://schemas.openxmlformats.org/officeDocument/2006/relationships/hyperlink" Target="http://www.amk.ca/python/howto/regex/" TargetMode="External"/><Relationship Id="rId32" Type="http://schemas.openxmlformats.org/officeDocument/2006/relationships/hyperlink" Target="http://www.amk.ca/python/howto/regex/" TargetMode="External"/><Relationship Id="rId33" Type="http://schemas.openxmlformats.org/officeDocument/2006/relationships/hyperlink" Target="http://www.amk.ca/python/howto/regex/" TargetMode="External"/><Relationship Id="rId34" Type="http://schemas.openxmlformats.org/officeDocument/2006/relationships/hyperlink" Target="http://www.amk.ca/python/howto/regex/" TargetMode="External"/><Relationship Id="rId35" Type="http://schemas.openxmlformats.org/officeDocument/2006/relationships/hyperlink" Target="http://www.amk.ca/python/howto/regex/" TargetMode="External"/><Relationship Id="rId36" Type="http://schemas.openxmlformats.org/officeDocument/2006/relationships/hyperlink" Target="http://www.amk.ca/python/howto/regex/" TargetMode="External"/><Relationship Id="rId37" Type="http://schemas.openxmlformats.org/officeDocument/2006/relationships/hyperlink" Target="http://www.amk.ca/python/howto/regex/" TargetMode="External"/><Relationship Id="rId38" Type="http://schemas.openxmlformats.org/officeDocument/2006/relationships/hyperlink" Target="http://ruddo.com/projects/wp-search-replace/wp-search-replace-regexptut/" TargetMode="External"/><Relationship Id="rId39" Type="http://schemas.openxmlformats.org/officeDocument/2006/relationships/hyperlink" Target="http://ruddo.com/projects/wp-search-replace/wp-search-replace-regexptut/" TargetMode="External"/><Relationship Id="rId40" Type="http://schemas.openxmlformats.org/officeDocument/2006/relationships/hyperlink" Target="http://ruddo.com/projects/wp-search-replace/wp-search-replace-regexptut/" TargetMode="External"/><Relationship Id="rId41" Type="http://schemas.openxmlformats.org/officeDocument/2006/relationships/hyperlink" Target="http://ruddo.com/projects/wp-search-replace/wp-search-replace-regexptut/" TargetMode="External"/><Relationship Id="rId42" Type="http://schemas.openxmlformats.org/officeDocument/2006/relationships/hyperlink" Target="http://ruddo.com/projects/wp-search-replace/wp-search-replace-regexptut/" TargetMode="External"/><Relationship Id="rId43" Type="http://schemas.openxmlformats.org/officeDocument/2006/relationships/hyperlink" Target="http://ruddo.com/projects/wp-search-replace/wp-search-replace-regexptut/" TargetMode="External"/><Relationship Id="rId44" Type="http://schemas.openxmlformats.org/officeDocument/2006/relationships/hyperlink" Target="http://ruddo.com/projects/wp-search-replace/wp-search-replace-regexptut/" TargetMode="External"/><Relationship Id="rId45" Type="http://schemas.openxmlformats.org/officeDocument/2006/relationships/hyperlink" Target="http://ruddo.com/projects/wp-search-replace/wp-search-replace-regexptut/" TargetMode="External"/><Relationship Id="rId46" Type="http://schemas.openxmlformats.org/officeDocument/2006/relationships/hyperlink" Target="http://ruddo.com/projects/wp-search-replace/wp-search-replace-regexptut/" TargetMode="External"/><Relationship Id="rId47" Type="http://schemas.openxmlformats.org/officeDocument/2006/relationships/hyperlink" Target="http://ruddo.com/projects/wp-search-replace/wp-search-replace-regexptut/" TargetMode="External"/><Relationship Id="rId48" Type="http://schemas.openxmlformats.org/officeDocument/2006/relationships/hyperlink" Target="http://ruddo.com/projects/wp-search-replace/wp-search-replace-regexptut/" TargetMode="External"/><Relationship Id="rId49" Type="http://schemas.openxmlformats.org/officeDocument/2006/relationships/hyperlink" Target="http://ruddo.com/projects/wp-search-replace/wp-search-replace-regexptut/" TargetMode="External"/><Relationship Id="rId50" Type="http://schemas.openxmlformats.org/officeDocument/2006/relationships/hyperlink" Target="http://ruddo.com/projects/wp-search-replace/wp-search-replace-regexptut/" TargetMode="External"/><Relationship Id="rId51" Type="http://schemas.openxmlformats.org/officeDocument/2006/relationships/hyperlink" Target="http://ruddo.com/projects/wp-search-replace/wp-search-replace-regexptut/" TargetMode="External"/><Relationship Id="rId52" Type="http://schemas.openxmlformats.org/officeDocument/2006/relationships/hyperlink" Target="http://ruddo.com/projects/wp-search-replace/wp-search-replace-regexptut/" TargetMode="External"/><Relationship Id="rId53" Type="http://schemas.openxmlformats.org/officeDocument/2006/relationships/hyperlink" Target="http://ruddo.com/projects/wp-search-replace/wp-search-replace-regexptut/" TargetMode="External"/><Relationship Id="rId54" Type="http://schemas.openxmlformats.org/officeDocument/2006/relationships/hyperlink" Target="http://ruddo.com/projects/wp-search-replace/wp-search-replace-regexptut/" TargetMode="External"/><Relationship Id="rId55" Type="http://schemas.openxmlformats.org/officeDocument/2006/relationships/hyperlink" Target="http://ruddo.com/projects/wp-search-replace/wp-search-replace-regexptut/" TargetMode="External"/><Relationship Id="rId56" Type="http://schemas.openxmlformats.org/officeDocument/2006/relationships/hyperlink" Target="http://ruddo.com/projects/wp-search-replace/wp-search-replace-regexptut/" TargetMode="External"/><Relationship Id="rId57" Type="http://schemas.openxmlformats.org/officeDocument/2006/relationships/hyperlink" Target="http://ruddo.com/projects/wp-search-replace/wp-search-replace-regexptut/" TargetMode="External"/><Relationship Id="rId58" Type="http://schemas.openxmlformats.org/officeDocument/2006/relationships/hyperlink" Target="http://ruddo.com/projects/wp-search-replace/wp-search-replace-regexptut/" TargetMode="External"/><Relationship Id="rId59" Type="http://schemas.openxmlformats.org/officeDocument/2006/relationships/hyperlink" Target="http://gnosis.cx/publish/programming/regular_expressions.html" TargetMode="External"/><Relationship Id="rId60" Type="http://schemas.openxmlformats.org/officeDocument/2006/relationships/hyperlink" Target="http://codeproject.com/dotnet/RegexTutorial.asp" TargetMode="External"/><Relationship Id="rId6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forta.com/books/0672325667/" TargetMode="External"/><Relationship Id="rId2" Type="http://schemas.openxmlformats.org/officeDocument/2006/relationships/hyperlink" Target="http://www.regexlib.com/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3300"/>
                </a:solidFill>
                <a:latin typeface="Arial"/>
              </a:rPr>
              <a:t>Regular Expressions</a:t>
            </a: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Zoran Dželajlija &amp; Aco Dmitrovi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D8305-126F-496D-AB49-1744EE4CA8E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3300"/>
                </a:solidFill>
                <a:latin typeface="Arial"/>
              </a:rPr>
              <a:t>Praksa</a:t>
            </a: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Imate problem? Npr. ne znate koliko je programskih paketa instalirano na poslužitelj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Može li se brzo riješiti uz pomoć R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$ dpkg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-</a:t>
            </a: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l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| grep -c ‘^ii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liko je paketa instalirano, ali nije konfiguriran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$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 dpkg -l | grep ‘^i’ | grep -v -c ‘^ii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$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 dpkg -l | grep ‘^i[^i]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liko je paketa deinstalirano, ali je konfiguracija jo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š t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$ dpkg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-</a:t>
            </a: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l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| grep -c ‘^r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D6DA4-22B6-4D49-A73E-09BDE7629A6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3300"/>
                </a:solidFill>
                <a:latin typeface="Arial"/>
              </a:rPr>
              <a:t>Regularni izrazi</a:t>
            </a: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Definicija: </a:t>
            </a:r>
            <a:r>
              <a:rPr b="0" i="1" lang="hr-HR" sz="3200" spc="-1" strike="noStrike">
                <a:solidFill>
                  <a:srgbClr val="000000"/>
                </a:solidFill>
                <a:latin typeface="Arial"/>
              </a:rPr>
              <a:t>“predložak koji služi za označavanje ili odabir određenog niza znakova unutar većeg teksta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Zapis u obliku niza znakova (</a:t>
            </a:r>
            <a:r>
              <a:rPr b="0" i="1" lang="hr-HR" sz="3200" spc="-1" strike="noStrike">
                <a:solidFill>
                  <a:srgbClr val="000000"/>
                </a:solidFill>
                <a:latin typeface="Arial"/>
              </a:rPr>
              <a:t>string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Specijaliziran jezik, s vlastitom sintaksom i naredba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65FBD-582B-44A5-8892-59E6453E303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3300"/>
                </a:solidFill>
                <a:latin typeface="Arial"/>
              </a:rPr>
              <a:t>Čemu služe RI?</a:t>
            </a: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Za sparivanje i obradu teksta 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atch </a:t>
            </a:r>
            <a:r>
              <a:rPr b="0" i="1" lang="hr-HR" sz="32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manipulate</a:t>
            </a:r>
            <a:r>
              <a:rPr b="0" i="1" lang="hr-HR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Osnovne moguć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retraživanje teks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u datoteka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standard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u nekom nizu unutar programskog jez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Zamjena (search &amp; 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place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9E6FC-B187-4B46-B8BB-4D8D8F094D7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3300"/>
                </a:solidFill>
                <a:latin typeface="Arial"/>
              </a:rPr>
              <a:t>Gdje nabaviti RI?</a:t>
            </a: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Regularni izrazi nisu samostojeći alat koji možete kupiti ili skinuti s Interne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Skup pravila ugrađenih u raznolik softv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rogramske jezi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a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razvojna okružen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2EB0D-549E-4A1A-852A-69522130081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3300"/>
                </a:solidFill>
                <a:latin typeface="Arial"/>
              </a:rPr>
              <a:t>Vrste RI</a:t>
            </a: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ff3300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osnovni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ic regular expressions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) – mogućnosti slične izvornim 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sed, grep na Unix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ff3300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rošireni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ended regular expressions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) – podizrazi, dodaci za ponavljanje i izb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grep –E, većina alata i jezi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ff3300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dodatna proširenja, npr. Perl 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erl, </a:t>
            </a:r>
            <a:r>
              <a:rPr b="0" i="1" lang="hr-HR" sz="2800" spc="-1" strike="noStrike">
                <a:solidFill>
                  <a:srgbClr val="000000"/>
                </a:solidFill>
                <a:latin typeface="Arial"/>
              </a:rPr>
              <a:t>PCRE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library, Python </a:t>
            </a:r>
            <a:r>
              <a:rPr b="0" i="1" lang="hr-HR" sz="2800" spc="-1" strike="noStrike">
                <a:solidFill>
                  <a:srgbClr val="000000"/>
                </a:solidFill>
                <a:latin typeface="Arial"/>
              </a:rPr>
              <a:t>sre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modul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08125-01E3-4A7A-A3E4-C41A148758A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3300"/>
                </a:solidFill>
                <a:latin typeface="Arial"/>
              </a:rPr>
              <a:t>grep</a:t>
            </a: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l Regular Expression Pri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obal Regular Expression Par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Unix alat za pretraživanje teksta po datotekama ili na standardnom ulazu (stdi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Osnovna namjena je prikaz redaka koji odgovaraju navedenom R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Lucida Console"/>
              </a:rPr>
              <a:t>$ </a:t>
            </a:r>
            <a:r>
              <a:rPr b="1" lang="hr-HR" sz="2800" spc="-1" strike="noStrike">
                <a:solidFill>
                  <a:srgbClr val="000000"/>
                </a:solidFill>
                <a:latin typeface="Lucida Console"/>
              </a:rPr>
              <a:t>ps -fe | grep sendm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22FEA-A18C-40F7-8468-5A5229D7C50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3300"/>
                </a:solidFill>
                <a:latin typeface="Arial"/>
              </a:rPr>
              <a:t>Otkud ime grep?</a:t>
            </a: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Wikipedi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Naredba za </a:t>
            </a:r>
            <a:r>
              <a:rPr b="0" i="1" lang="hr-HR" sz="2800" spc="-1" strike="noStrike">
                <a:solidFill>
                  <a:srgbClr val="000000"/>
                </a:solidFill>
                <a:latin typeface="Arial"/>
              </a:rPr>
              <a:t>ed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, povijesno standardni uređivač teksta na Unix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800" spc="-1" strike="noStrike">
                <a:solidFill>
                  <a:srgbClr val="000000"/>
                </a:solidFill>
                <a:latin typeface="Lucida Console"/>
              </a:rPr>
              <a:t>g/re/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traži globalno retke koji se podudaraju sa regularnim izrazom re i ispiši ih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E93CF-EAC9-410A-8B2F-3DAE6ECCED8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3300"/>
                </a:solidFill>
                <a:latin typeface="Arial"/>
              </a:rPr>
              <a:t>sed</a:t>
            </a: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Stream EDi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samo osnovni regularni izraz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Jednoslovne naredbe kao u povijesnom standardnom editoru na Unixu “</a:t>
            </a:r>
            <a:r>
              <a:rPr b="0" lang="hr-HR" sz="3200" spc="-1" strike="noStrike">
                <a:solidFill>
                  <a:srgbClr val="000000"/>
                </a:solidFill>
                <a:latin typeface="Lucida Console"/>
              </a:rPr>
              <a:t>ed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Tipična primjena u unix ljusci je pip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$ nekakav_ulaz | sed ’s/nesto/nesto drugo/’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sed.sf.net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AB64A-9368-4CB8-B336-ACF3F8BA2CA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3300"/>
                </a:solidFill>
                <a:latin typeface="Arial"/>
              </a:rPr>
              <a:t>awk</a:t>
            </a: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ravi programski jezik, sa varijablama i složenom sintaks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Extended 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Ugrađeno dijeljenje ulaznih podataka po stupci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Tipični onelin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Lucida Console"/>
              </a:rPr>
              <a:t>$</a:t>
            </a:r>
            <a:r>
              <a:rPr b="0" lang="hr-HR" sz="28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hr-HR" sz="2800" spc="-1" strike="noStrike">
                <a:solidFill>
                  <a:srgbClr val="000000"/>
                </a:solidFill>
                <a:latin typeface="Lucida Console"/>
              </a:rPr>
              <a:t>route -n | awk ’{print $2}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06B20-36BB-4913-9F74-EE707C6590D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perl</a:t>
            </a: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Kompleksni skriptni jez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roceduralno ili objektno programiran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mnoštvo ugrađenih tipova podataka (liste, nizovi, asocijativne tablice (hash), reference.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sintaksa za RI ugrađena u jezik, poznati konstrukti iz seda i awka, npr. </a:t>
            </a:r>
            <a:r>
              <a:rPr b="0" lang="hr-HR" sz="2800" spc="-1" strike="noStrike">
                <a:solidFill>
                  <a:srgbClr val="000000"/>
                </a:solidFill>
                <a:latin typeface="Lucida Console"/>
              </a:rPr>
              <a:t>/</a:t>
            </a:r>
            <a:r>
              <a:rPr b="0" lang="hr-HR" sz="2800" spc="-1" strike="noStrike">
                <a:solidFill>
                  <a:srgbClr val="808080"/>
                </a:solidFill>
                <a:latin typeface="Lucida Console"/>
              </a:rPr>
              <a:t>foo</a:t>
            </a:r>
            <a:r>
              <a:rPr b="0" lang="hr-HR" sz="2800" spc="-1" strike="noStrike">
                <a:solidFill>
                  <a:srgbClr val="000000"/>
                </a:solidFill>
                <a:latin typeface="Lucida Console"/>
              </a:rPr>
              <a:t>/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ili </a:t>
            </a:r>
            <a:r>
              <a:rPr b="0" lang="hr-HR" sz="2800" spc="-1" strike="noStrike">
                <a:solidFill>
                  <a:srgbClr val="000000"/>
                </a:solidFill>
                <a:latin typeface="Lucida Console"/>
              </a:rPr>
              <a:t>s/</a:t>
            </a:r>
            <a:r>
              <a:rPr b="0" lang="hr-HR" sz="2800" spc="-1" strike="noStrike">
                <a:solidFill>
                  <a:srgbClr val="808080"/>
                </a:solidFill>
                <a:latin typeface="Lucida Console"/>
              </a:rPr>
              <a:t>trazi</a:t>
            </a:r>
            <a:r>
              <a:rPr b="0" lang="hr-HR" sz="2800" spc="-1" strike="noStrike">
                <a:solidFill>
                  <a:srgbClr val="000000"/>
                </a:solidFill>
                <a:latin typeface="Lucida Console"/>
              </a:rPr>
              <a:t>/zamijeni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perldoc perlop, perldoc perl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s/^/&gt; / if (/^$/ .. eof()); # quote bo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14631-6587-42BE-8293-242A1A2D1C1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3300"/>
                </a:solidFill>
                <a:latin typeface="Arial"/>
              </a:rPr>
              <a:t>Drugovi </a:t>
            </a:r>
            <a:r>
              <a:rPr b="0" lang="hr-HR" sz="4400" spc="-1" strike="noStrike">
                <a:solidFill>
                  <a:srgbClr val="ff3300"/>
                </a:solidFill>
                <a:latin typeface="Wingdings"/>
                <a:ea typeface="Wingdings"/>
              </a:rPr>
              <a:t></a:t>
            </a: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Dinko Koruni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Željko Boro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Zdenko Škilj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Unix Guru Unive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©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re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© Žel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© Zdu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© UG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D89C9-1F82-41DA-B463-8C89BB94B24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3300"/>
                </a:solidFill>
                <a:latin typeface="Arial"/>
              </a:rPr>
              <a:t>Raznolikost</a:t>
            </a: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Način korištenja se razlikuje od alata do al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Različite mogućnosti, ovisno o vrsti i konkretnoj implementacij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Moguće suptilne (dijalektalne) razli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npr.: mawk (Debian default), GNU awk i Solaris awk imaju različite mogućnost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Svi oni se pak razlikuju od sed-a, GNU grepa ili sistemskog grepa na nekom Unix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Linux instalacije imaju GNU alate sa dodanim mogućnostima – oprez ako kod treba biti portabila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7C217-AB90-42B9-BE52-89298483EA5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3300"/>
                </a:solidFill>
                <a:latin typeface="Arial"/>
              </a:rPr>
              <a:t>Raznolikost</a:t>
            </a: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Većina problema ima više ispravnih rješen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Neka su brž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Druga jednostavn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Neka su prenosiva i rade na različitim varijantama alata, ili u drugim alati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Kao i za sve na Unixu, potrebno je istražiti stvarne mogućnosti – ništa bez RTFM i samostalnog isprobavanj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Vježba, vježba, vježba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1CAD2-6B60-41C6-A413-E35697FD562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3300"/>
                </a:solidFill>
                <a:latin typeface="Arial"/>
              </a:rPr>
              <a:t>Uzorak</a:t>
            </a: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 i sparivanje</a:t>
            </a: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Regularni izraz definira uzorak, koji se uparuje s teksto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hr-HR" sz="3200" spc="-1" strike="noStrike">
                <a:solidFill>
                  <a:srgbClr val="000000"/>
                </a:solidFill>
                <a:latin typeface="Arial"/>
              </a:rPr>
              <a:t>pattern &amp; match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RI: </a:t>
            </a:r>
            <a:r>
              <a:rPr b="0" lang="hr-HR" sz="2800" spc="-1" strike="noStrike">
                <a:solidFill>
                  <a:srgbClr val="808080"/>
                </a:solidFill>
                <a:latin typeface="Lucida Console"/>
              </a:rPr>
              <a:t>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regularni izraz koji se sastoji od pojave regularnog izraza </a:t>
            </a:r>
            <a:r>
              <a:rPr b="0" lang="hr-HR" sz="2800" spc="-1" strike="noStrike">
                <a:solidFill>
                  <a:srgbClr val="808080"/>
                </a:solidFill>
                <a:latin typeface="Lucida Console"/>
              </a:rPr>
              <a:t>i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neposredno iza izraza </a:t>
            </a:r>
            <a:r>
              <a:rPr b="0" lang="hr-HR" sz="2800" spc="-1" strike="noStrike">
                <a:solidFill>
                  <a:srgbClr val="808080"/>
                </a:solidFill>
                <a:latin typeface="Lucida Console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Tekst: </a:t>
            </a:r>
            <a:r>
              <a:rPr b="0" lang="hr-HR" sz="3200" spc="-1" strike="noStrike">
                <a:solidFill>
                  <a:srgbClr val="000000"/>
                </a:solidFill>
                <a:latin typeface="Lucida Console"/>
              </a:rPr>
              <a:t>Riba ribi grize re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2AC9A-8F02-4A63-8BB3-3D88BDE6BEF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s</a:t>
            </a:r>
            <a:r>
              <a:rPr b="0" lang="hr-HR" sz="4400" spc="-1" strike="noStrike">
                <a:solidFill>
                  <a:srgbClr val="ff3300"/>
                </a:solidFill>
                <a:latin typeface="Arial"/>
              </a:rPr>
              <a:t>parivanje</a:t>
            </a: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808080"/>
                </a:solidFill>
                <a:latin typeface="Lucida Console"/>
              </a:rPr>
              <a:t>r</a:t>
            </a:r>
            <a:br>
              <a:rPr sz="2400"/>
            </a:br>
            <a:r>
              <a:rPr b="0" lang="hr-HR" sz="2400" spc="-1" strike="noStrike">
                <a:solidFill>
                  <a:srgbClr val="808080"/>
                </a:solidFill>
                <a:latin typeface="Lucida Console"/>
              </a:rPr>
              <a:t>i</a:t>
            </a: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– izrazi koji se podudaraju sa doslovnim znak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808080"/>
                </a:solidFill>
                <a:latin typeface="Lucida Console"/>
              </a:rPr>
              <a:t>ri</a:t>
            </a: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– složeni regularni izra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pojeni regularni izraz se podudara ako se svaki jednostavni RI redom podudara sa uzastopnim dijelovima niz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Označeni podnizovi se podudaraju sa izrazom </a:t>
            </a:r>
            <a:r>
              <a:rPr b="0" lang="hr-HR" sz="2400" spc="-1" strike="noStrike">
                <a:solidFill>
                  <a:srgbClr val="808080"/>
                </a:solidFill>
                <a:latin typeface="Lucida Console"/>
              </a:rPr>
              <a:t>ri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Riba </a:t>
            </a:r>
            <a:r>
              <a:rPr b="0" lang="hr-HR" sz="2400" spc="-1" strike="noStrike" u="sng">
                <a:solidFill>
                  <a:srgbClr val="000000"/>
                </a:solidFill>
                <a:uFillTx/>
                <a:latin typeface="Lucida Console"/>
              </a:rPr>
              <a:t>ri</a:t>
            </a: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bi g</a:t>
            </a:r>
            <a:r>
              <a:rPr b="0" lang="hr-HR" sz="2400" spc="-1" strike="noStrike" u="sng">
                <a:solidFill>
                  <a:srgbClr val="000000"/>
                </a:solidFill>
                <a:uFillTx/>
                <a:latin typeface="Lucida Console"/>
              </a:rPr>
              <a:t>ri</a:t>
            </a: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ze re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Unix razlikuje mala i velika slova </a:t>
            </a:r>
            <a:r>
              <a:rPr b="0" i="1" lang="hr-HR" sz="2000" spc="-1" strike="noStrike">
                <a:solidFill>
                  <a:srgbClr val="000000"/>
                </a:solidFill>
                <a:latin typeface="Arial"/>
              </a:rPr>
              <a:t>(case sensitive)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, regex takođ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Opcija </a:t>
            </a: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i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isključuje razlikovanje (</a:t>
            </a:r>
            <a:r>
              <a:rPr b="0" i="1" lang="hr-HR" sz="2000" spc="-1" strike="noStrike">
                <a:solidFill>
                  <a:srgbClr val="000000"/>
                </a:solidFill>
                <a:latin typeface="Arial"/>
              </a:rPr>
              <a:t>case insensitive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Traženje RI sastavljenog od doslovnih znakova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$ grep –i </a:t>
            </a:r>
            <a:r>
              <a:rPr b="0" lang="hr-HR" sz="2400" spc="-1" strike="noStrike">
                <a:solidFill>
                  <a:srgbClr val="808080"/>
                </a:solidFill>
                <a:latin typeface="Lucida Console"/>
              </a:rPr>
              <a:t>lignjun</a:t>
            </a: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 recepti.t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$ awk ’/</a:t>
            </a:r>
            <a:r>
              <a:rPr b="0" lang="hr-HR" sz="2400" spc="-1" strike="noStrike">
                <a:solidFill>
                  <a:srgbClr val="808080"/>
                </a:solidFill>
                <a:latin typeface="Lucida Console"/>
              </a:rPr>
              <a:t>lignjun</a:t>
            </a: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/i’ recepti.t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15D8D-DA5B-4501-9925-DFD0B96DF87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3300"/>
                </a:solidFill>
                <a:latin typeface="Arial"/>
              </a:rPr>
              <a:t>Koliko pogodaka?</a:t>
            </a: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Većina alata podrazumijevano barata samo s prvim pogodk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rekidač </a:t>
            </a:r>
            <a:r>
              <a:rPr b="0" lang="hr-HR" sz="3200" spc="-1" strike="noStrike">
                <a:solidFill>
                  <a:srgbClr val="000000"/>
                </a:solidFill>
                <a:latin typeface="Lucida Console"/>
              </a:rPr>
              <a:t>g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(global) vraća niz koji sadrži sve pogotke iz pojedinog retka odn. ni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grep j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etpostavljeno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globa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sed, perl: </a:t>
            </a:r>
            <a:r>
              <a:rPr b="0" lang="hr-HR" sz="2800" spc="-1" strike="noStrike">
                <a:solidFill>
                  <a:srgbClr val="000000"/>
                </a:solidFill>
                <a:latin typeface="Lucida Console"/>
              </a:rPr>
              <a:t>/</a:t>
            </a:r>
            <a:r>
              <a:rPr b="0" lang="hr-HR" sz="2800" spc="-1" strike="noStrike">
                <a:solidFill>
                  <a:srgbClr val="808080"/>
                </a:solidFill>
                <a:latin typeface="Lucida Console"/>
              </a:rPr>
              <a:t>RI</a:t>
            </a:r>
            <a:r>
              <a:rPr b="0" lang="hr-HR" sz="2800" spc="-1" strike="noStrike">
                <a:solidFill>
                  <a:srgbClr val="000000"/>
                </a:solidFill>
                <a:latin typeface="Lucida Console"/>
              </a:rPr>
              <a:t>/g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hr-HR" sz="2800" spc="-1" strike="noStrike">
                <a:solidFill>
                  <a:srgbClr val="000000"/>
                </a:solidFill>
                <a:latin typeface="Lucida Console"/>
              </a:rPr>
              <a:t>s/</a:t>
            </a:r>
            <a:r>
              <a:rPr b="0" lang="hr-HR" sz="2800" spc="-1" strike="noStrike">
                <a:solidFill>
                  <a:srgbClr val="808080"/>
                </a:solidFill>
                <a:latin typeface="Lucida Console"/>
              </a:rPr>
              <a:t>RI</a:t>
            </a:r>
            <a:r>
              <a:rPr b="0" lang="hr-HR" sz="2800" spc="-1" strike="noStrike">
                <a:solidFill>
                  <a:srgbClr val="000000"/>
                </a:solidFill>
                <a:latin typeface="Lucida Console"/>
              </a:rPr>
              <a:t>/zamjena/g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br>
              <a:rPr sz="2800"/>
            </a:b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vi: </a:t>
            </a:r>
            <a:r>
              <a:rPr b="0" lang="hr-HR" sz="2800" spc="-1" strike="noStrike">
                <a:solidFill>
                  <a:srgbClr val="000000"/>
                </a:solidFill>
                <a:latin typeface="Lucida Console"/>
              </a:rPr>
              <a:t>g/</a:t>
            </a:r>
            <a:r>
              <a:rPr b="0" lang="hr-HR" sz="2800" spc="-1" strike="noStrike">
                <a:solidFill>
                  <a:srgbClr val="808080"/>
                </a:solidFill>
                <a:latin typeface="Lucida Console"/>
              </a:rPr>
              <a:t>RI</a:t>
            </a:r>
            <a:r>
              <a:rPr b="0" lang="hr-HR" sz="2800" spc="-1" strike="noStrike">
                <a:solidFill>
                  <a:srgbClr val="000000"/>
                </a:solidFill>
                <a:latin typeface="Lucida Console"/>
              </a:rPr>
              <a:t>/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hr-HR" sz="2800" spc="-1" strike="noStrike">
                <a:solidFill>
                  <a:srgbClr val="000000"/>
                </a:solidFill>
                <a:latin typeface="Lucida Console"/>
              </a:rPr>
              <a:t>s/</a:t>
            </a:r>
            <a:r>
              <a:rPr b="0" lang="hr-HR" sz="2800" spc="-1" strike="noStrike">
                <a:solidFill>
                  <a:srgbClr val="808080"/>
                </a:solidFill>
                <a:latin typeface="Lucida Console"/>
              </a:rPr>
              <a:t>RI</a:t>
            </a:r>
            <a:r>
              <a:rPr b="0" lang="hr-HR" sz="2800" spc="-1" strike="noStrike">
                <a:solidFill>
                  <a:srgbClr val="000000"/>
                </a:solidFill>
                <a:latin typeface="Lucida Console"/>
              </a:rPr>
              <a:t>/zamjena/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58905-1CA6-401E-8EB6-7FFCDAFD535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3300"/>
                </a:solidFill>
                <a:latin typeface="Arial"/>
              </a:rPr>
              <a:t>Primjer</a:t>
            </a: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$ </a:t>
            </a:r>
            <a:r>
              <a:rPr b="1" lang="hr-HR" sz="2400" spc="-1" strike="noStrike">
                <a:solidFill>
                  <a:srgbClr val="000000"/>
                </a:solidFill>
                <a:latin typeface="Lucida Console"/>
              </a:rPr>
              <a:t>ls 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01 Tubular Bells Part One.m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02 Tubular Bells Part Two.m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$ </a:t>
            </a:r>
            <a:r>
              <a:rPr b="1" lang="hr-HR" sz="2400" spc="-1" strike="noStrike">
                <a:solidFill>
                  <a:srgbClr val="000000"/>
                </a:solidFill>
                <a:latin typeface="Lucida Console"/>
              </a:rPr>
              <a:t>ls -1 | sed ’s/ /_/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01_Tubular Bells Part One.m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02_Tubular Bells Part Two.m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$ </a:t>
            </a:r>
            <a:r>
              <a:rPr b="1" lang="hr-HR" sz="2400" spc="-1" strike="noStrike">
                <a:solidFill>
                  <a:srgbClr val="000000"/>
                </a:solidFill>
                <a:latin typeface="Lucida Console"/>
              </a:rPr>
              <a:t>ls -1 | sed ’s/ /_/g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01_Tubular_Bells_Part_One.m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02_Tubular_Bells_Part_Two.m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7EC85-E6B1-4901-B9C0-477136CE94C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 u="sng">
                <a:solidFill>
                  <a:srgbClr val="ff3300"/>
                </a:solidFill>
                <a:uFillTx/>
                <a:latin typeface="Arial"/>
              </a:rPr>
              <a:t>Proizvoljni znak – </a:t>
            </a:r>
            <a:r>
              <a:rPr b="0" lang="hr-HR" sz="4400" spc="-1" strike="noStrike" u="sng">
                <a:solidFill>
                  <a:srgbClr val="ff3300"/>
                </a:solidFill>
                <a:uFillTx/>
                <a:latin typeface="Lucida Console"/>
              </a:rPr>
              <a:t>.</a:t>
            </a: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RI </a:t>
            </a:r>
            <a:r>
              <a:rPr b="0" lang="hr-HR" sz="2800" spc="-1" strike="noStrike">
                <a:solidFill>
                  <a:srgbClr val="808080"/>
                </a:solidFill>
                <a:latin typeface="Lucida Console"/>
              </a:rPr>
              <a:t>.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(točka) zamjenjuje bilo koji, ali točno jedan zn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grep ispisuje cijeli redak u kojem je nađen traženi uzor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Lucida Console"/>
                <a:ea typeface="Courier New"/>
              </a:rPr>
              <a:t>$ grep </a:t>
            </a:r>
            <a:r>
              <a:rPr b="0" lang="hr-HR" sz="2000" spc="-1" strike="noStrike">
                <a:solidFill>
                  <a:srgbClr val="808080"/>
                </a:solidFill>
                <a:latin typeface="Lucida Console"/>
                <a:ea typeface="Courier New"/>
              </a:rPr>
              <a:t>lignj.</a:t>
            </a:r>
            <a:r>
              <a:rPr b="0" lang="hr-HR" sz="2000" spc="-1" strike="noStrike">
                <a:solidFill>
                  <a:srgbClr val="000000"/>
                </a:solidFill>
                <a:latin typeface="Lucida Console"/>
                <a:ea typeface="Courier New"/>
              </a:rPr>
              <a:t> recepti.txt</a:t>
            </a: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sta kupujes. Lignja je skupa, </a:t>
            </a:r>
            <a:r>
              <a:rPr b="0" lang="hr-HR" sz="2000" spc="-1" strike="noStrike" u="sng">
                <a:solidFill>
                  <a:srgbClr val="000000"/>
                </a:solidFill>
                <a:uFillTx/>
                <a:latin typeface="Lucida Console"/>
              </a:rPr>
              <a:t>lignju</a:t>
            </a: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n je jeft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pa tom smijesom napuni </a:t>
            </a:r>
            <a:r>
              <a:rPr b="0" lang="hr-HR" sz="2000" spc="-1" strike="noStrike" u="sng">
                <a:solidFill>
                  <a:srgbClr val="000000"/>
                </a:solidFill>
                <a:uFillTx/>
                <a:latin typeface="Lucida Console"/>
              </a:rPr>
              <a:t>lignje</a:t>
            </a: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. Kad si ih napuni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ako ne nema vez uli malo ulja i prepeci </a:t>
            </a:r>
            <a:r>
              <a:rPr b="0" lang="hr-HR" sz="2000" spc="-1" strike="noStrike" u="sng">
                <a:solidFill>
                  <a:srgbClr val="000000"/>
                </a:solidFill>
                <a:uFillTx/>
                <a:latin typeface="Lucida Console"/>
              </a:rPr>
              <a:t>lignje</a:t>
            </a: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B4FA1-C1F3-4077-8512-0266574E7F7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269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3300"/>
                </a:solidFill>
                <a:latin typeface="Arial"/>
              </a:rPr>
              <a:t>Citiranje – metaznak </a:t>
            </a:r>
            <a:r>
              <a:rPr b="0" lang="hr-HR" sz="4400" spc="-1" strike="noStrike">
                <a:solidFill>
                  <a:srgbClr val="ff3300"/>
                </a:solidFill>
                <a:latin typeface="Lucida Console"/>
              </a:rPr>
              <a:t>\</a:t>
            </a: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Što ako tražimo upravo znak ”</a:t>
            </a:r>
            <a:r>
              <a:rPr b="0" lang="hr-HR" sz="2800" spc="-1" strike="noStrike">
                <a:solidFill>
                  <a:srgbClr val="000000"/>
                </a:solidFill>
                <a:latin typeface="Lucida Console"/>
              </a:rPr>
              <a:t>.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” (točku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808080"/>
                </a:solidFill>
                <a:latin typeface="Lucida Console"/>
              </a:rPr>
              <a:t>\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dodan ispred, mijenja značenje metaznaka u običan znak (engl. escap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Na primj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Regex </a:t>
            </a:r>
            <a:r>
              <a:rPr b="0" lang="hr-HR" sz="2400" spc="-1" strike="noStrike">
                <a:solidFill>
                  <a:srgbClr val="808080"/>
                </a:solidFill>
                <a:latin typeface="Lucida Console"/>
              </a:rPr>
              <a:t>a\.xls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se podudara s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800" spc="-1" strike="noStrike">
                <a:solidFill>
                  <a:srgbClr val="000000"/>
                </a:solidFill>
                <a:latin typeface="Lucida Console"/>
              </a:rPr>
              <a:t>naplat</a:t>
            </a:r>
            <a:r>
              <a:rPr b="0" lang="hr-HR" sz="2800" spc="-1" strike="noStrike" u="sng">
                <a:solidFill>
                  <a:srgbClr val="000000"/>
                </a:solidFill>
                <a:uFillTx/>
                <a:latin typeface="Lucida Console"/>
              </a:rPr>
              <a:t>a.x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Regex </a:t>
            </a:r>
            <a:r>
              <a:rPr b="0" lang="hr-HR" sz="2400" spc="-1" strike="noStrike">
                <a:solidFill>
                  <a:srgbClr val="808080"/>
                </a:solidFill>
                <a:latin typeface="Lucida Console"/>
              </a:rPr>
              <a:t>.a\.xls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se podudara s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hr-HR" sz="2800" spc="-1" strike="noStrike">
                <a:solidFill>
                  <a:srgbClr val="000000"/>
                </a:solidFill>
                <a:latin typeface="Lucida Console"/>
              </a:rPr>
              <a:t>napla</a:t>
            </a:r>
            <a:r>
              <a:rPr b="0" lang="hr-HR" sz="2800" spc="-1" strike="noStrike" u="sng">
                <a:solidFill>
                  <a:srgbClr val="000000"/>
                </a:solidFill>
                <a:uFillTx/>
                <a:latin typeface="Lucida Console"/>
              </a:rPr>
              <a:t>ta.x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Znak koji ima drugo značenje od doslovnog nazivamo metazna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7C78A-3759-42F4-B2C6-2912183EBA7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Podudaranje</a:t>
            </a:r>
            <a:r>
              <a:rPr b="0" lang="hr-HR" sz="4400" spc="-1" strike="noStrike">
                <a:solidFill>
                  <a:srgbClr val="ff3300"/>
                </a:solidFill>
                <a:latin typeface="Arial"/>
              </a:rPr>
              <a:t>: grep</a:t>
            </a: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Lucida Console"/>
                <a:ea typeface="Courier New"/>
              </a:rPr>
              <a:t>$ grep lignj. recepti.txt</a:t>
            </a: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sta kupujes. Lignja je skupa, </a:t>
            </a:r>
            <a:r>
              <a:rPr b="0" lang="hr-HR" sz="2000" spc="-1" strike="noStrike" u="sng">
                <a:solidFill>
                  <a:srgbClr val="000000"/>
                </a:solidFill>
                <a:uFillTx/>
                <a:latin typeface="Lucida Console"/>
              </a:rPr>
              <a:t>lignju</a:t>
            </a: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n je jeft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pa tom smijesom napuni </a:t>
            </a:r>
            <a:r>
              <a:rPr b="0" lang="hr-HR" sz="2000" spc="-1" strike="noStrike" u="sng">
                <a:solidFill>
                  <a:srgbClr val="000000"/>
                </a:solidFill>
                <a:uFillTx/>
                <a:latin typeface="Lucida Console"/>
              </a:rPr>
              <a:t>lignje</a:t>
            </a: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. Kad si ih napuni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ako ne nema vez uli malo ulja i prepeci </a:t>
            </a:r>
            <a:r>
              <a:rPr b="0" lang="hr-HR" sz="2000" spc="-1" strike="noStrike" u="sng">
                <a:solidFill>
                  <a:srgbClr val="000000"/>
                </a:solidFill>
                <a:uFillTx/>
                <a:latin typeface="Lucida Console"/>
              </a:rPr>
              <a:t>lignje</a:t>
            </a: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grep zapravno ne podcrtava, kako znati što je zapravo uparen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B4080-2A33-4B32-A4FE-30D91253143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Podudaranje</a:t>
            </a:r>
            <a:r>
              <a:rPr b="0" lang="hr-HR" sz="4400" spc="-1" strike="noStrike">
                <a:solidFill>
                  <a:srgbClr val="ff3300"/>
                </a:solidFill>
                <a:latin typeface="Arial"/>
              </a:rPr>
              <a:t>: </a:t>
            </a: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grep -o</a:t>
            </a: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Opcija </a:t>
            </a: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–o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vraća upravo niz koji se podud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Lucida Console"/>
                <a:ea typeface="Courier New"/>
              </a:rPr>
              <a:t>$ grep –o lignj. recepti.txt</a:t>
            </a: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 u="sng">
                <a:solidFill>
                  <a:srgbClr val="000000"/>
                </a:solidFill>
                <a:uFillTx/>
                <a:latin typeface="Lucida Console"/>
                <a:ea typeface="Courier New"/>
              </a:rPr>
              <a:t>lignj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 u="sng">
                <a:solidFill>
                  <a:srgbClr val="000000"/>
                </a:solidFill>
                <a:uFillTx/>
                <a:latin typeface="Lucida Console"/>
                <a:ea typeface="Courier New"/>
              </a:rPr>
              <a:t>lign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 u="sng">
                <a:solidFill>
                  <a:srgbClr val="000000"/>
                </a:solidFill>
                <a:uFillTx/>
                <a:latin typeface="Lucida Console"/>
                <a:ea typeface="Courier New"/>
              </a:rPr>
              <a:t>lign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Lucida Console"/>
                <a:ea typeface="Courier New"/>
              </a:rPr>
              <a:t>$ echo ”Riba </a:t>
            </a:r>
            <a:r>
              <a:rPr b="0" lang="hr-HR" sz="2000" spc="-1" strike="noStrike" u="sng">
                <a:solidFill>
                  <a:srgbClr val="000000"/>
                </a:solidFill>
                <a:uFillTx/>
                <a:latin typeface="Lucida Console"/>
                <a:ea typeface="Courier New"/>
              </a:rPr>
              <a:t>ri</a:t>
            </a:r>
            <a:r>
              <a:rPr b="0" lang="hr-HR" sz="2000" spc="-1" strike="noStrike">
                <a:solidFill>
                  <a:srgbClr val="000000"/>
                </a:solidFill>
                <a:latin typeface="Lucida Console"/>
                <a:ea typeface="Courier New"/>
              </a:rPr>
              <a:t>bi g</a:t>
            </a:r>
            <a:r>
              <a:rPr b="0" lang="hr-HR" sz="2000" spc="-1" strike="noStrike" u="sng">
                <a:solidFill>
                  <a:srgbClr val="000000"/>
                </a:solidFill>
                <a:uFillTx/>
                <a:latin typeface="Lucida Console"/>
                <a:ea typeface="Courier New"/>
              </a:rPr>
              <a:t>ri</a:t>
            </a:r>
            <a:r>
              <a:rPr b="0" lang="hr-HR" sz="2000" spc="-1" strike="noStrike">
                <a:solidFill>
                  <a:srgbClr val="000000"/>
                </a:solidFill>
                <a:latin typeface="Lucida Console"/>
                <a:ea typeface="Courier New"/>
              </a:rPr>
              <a:t>ze rep.” | grep –o r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Lucida Console"/>
                <a:ea typeface="Courier New"/>
              </a:rPr>
              <a:t>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Lucida Console"/>
                <a:ea typeface="Courier New"/>
              </a:rPr>
              <a:t>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Lucida Console"/>
                <a:ea typeface="Courier New"/>
              </a:rPr>
              <a:t>$ echo ”</a:t>
            </a:r>
            <a:r>
              <a:rPr b="0" lang="hr-HR" sz="2000" spc="-1" strike="noStrike" u="sng">
                <a:solidFill>
                  <a:srgbClr val="000000"/>
                </a:solidFill>
                <a:uFillTx/>
                <a:latin typeface="Lucida Console"/>
                <a:ea typeface="Courier New"/>
              </a:rPr>
              <a:t>Ri</a:t>
            </a:r>
            <a:r>
              <a:rPr b="0" lang="hr-HR" sz="2000" spc="-1" strike="noStrike">
                <a:solidFill>
                  <a:srgbClr val="000000"/>
                </a:solidFill>
                <a:latin typeface="Lucida Console"/>
                <a:ea typeface="Courier New"/>
              </a:rPr>
              <a:t>ba </a:t>
            </a:r>
            <a:r>
              <a:rPr b="0" lang="hr-HR" sz="2000" spc="-1" strike="noStrike" u="sng">
                <a:solidFill>
                  <a:srgbClr val="000000"/>
                </a:solidFill>
                <a:uFillTx/>
                <a:latin typeface="Lucida Console"/>
                <a:ea typeface="Courier New"/>
              </a:rPr>
              <a:t>ri</a:t>
            </a:r>
            <a:r>
              <a:rPr b="0" lang="hr-HR" sz="2000" spc="-1" strike="noStrike">
                <a:solidFill>
                  <a:srgbClr val="000000"/>
                </a:solidFill>
                <a:latin typeface="Lucida Console"/>
                <a:ea typeface="Courier New"/>
              </a:rPr>
              <a:t>bi g</a:t>
            </a:r>
            <a:r>
              <a:rPr b="0" lang="hr-HR" sz="2000" spc="-1" strike="noStrike" u="sng">
                <a:solidFill>
                  <a:srgbClr val="000000"/>
                </a:solidFill>
                <a:uFillTx/>
                <a:latin typeface="Lucida Console"/>
                <a:ea typeface="Courier New"/>
              </a:rPr>
              <a:t>ri</a:t>
            </a:r>
            <a:r>
              <a:rPr b="0" lang="hr-HR" sz="2000" spc="-1" strike="noStrike">
                <a:solidFill>
                  <a:srgbClr val="000000"/>
                </a:solidFill>
                <a:latin typeface="Lucida Console"/>
                <a:ea typeface="Courier New"/>
              </a:rPr>
              <a:t>ze rep.” | grep –io 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67E6F-93E2-4FC3-AB66-5C9A87864E5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3300"/>
                </a:solidFill>
                <a:latin typeface="Arial"/>
              </a:rPr>
              <a:t>Sadržaj</a:t>
            </a: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Uv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Osnovna sintak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Ala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roblemi iz stvarnog živo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C11A3-A33A-40BA-A629-5072ABB9652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Alati: grep</a:t>
            </a: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Osnovna uporaba: datoteka ili pipe (stdi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$ </a:t>
            </a:r>
            <a:r>
              <a:rPr b="1" lang="hr-HR" sz="2000" spc="-1" strike="noStrike">
                <a:solidFill>
                  <a:srgbClr val="000000"/>
                </a:solidFill>
                <a:latin typeface="Lucida Console"/>
              </a:rPr>
              <a:t>ls -1 /etc/apache/conf.d &gt; pop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$</a:t>
            </a:r>
            <a:r>
              <a:rPr b="1" lang="hr-HR" sz="2000" spc="-1" strike="noStrike">
                <a:solidFill>
                  <a:srgbClr val="000000"/>
                </a:solidFill>
                <a:latin typeface="Lucida Console"/>
              </a:rPr>
              <a:t> grep php pop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 u="sng">
                <a:solidFill>
                  <a:srgbClr val="000000"/>
                </a:solidFill>
                <a:uFillTx/>
                <a:latin typeface="Lucida Console"/>
              </a:rPr>
              <a:t>php</a:t>
            </a: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4.con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 u="sng">
                <a:solidFill>
                  <a:srgbClr val="000000"/>
                </a:solidFill>
                <a:uFillTx/>
                <a:latin typeface="Lucida Console"/>
              </a:rPr>
              <a:t>php</a:t>
            </a: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myadmin.con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 u="sng">
                <a:solidFill>
                  <a:srgbClr val="000000"/>
                </a:solidFill>
                <a:uFillTx/>
                <a:latin typeface="Lucida Console"/>
              </a:rPr>
              <a:t>php</a:t>
            </a: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myadmin.conf.dpkg-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 u="sng">
                <a:solidFill>
                  <a:srgbClr val="000000"/>
                </a:solidFill>
                <a:uFillTx/>
                <a:latin typeface="Lucida Console"/>
              </a:rPr>
              <a:t>php</a:t>
            </a: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myadmin.conf.dpkg-tm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000" spc="-1" strike="noStrike">
                <a:solidFill>
                  <a:srgbClr val="000000"/>
                </a:solidFill>
                <a:latin typeface="Lucida Console"/>
              </a:rPr>
              <a:t># i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$ </a:t>
            </a:r>
            <a:r>
              <a:rPr b="1" lang="hr-HR" sz="2000" spc="-1" strike="noStrike">
                <a:solidFill>
                  <a:srgbClr val="000000"/>
                </a:solidFill>
                <a:latin typeface="Lucida Console"/>
              </a:rPr>
              <a:t>ls -1 /etc/apache/conf.d | grep ph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 u="sng">
                <a:solidFill>
                  <a:srgbClr val="000000"/>
                </a:solidFill>
                <a:uFillTx/>
                <a:latin typeface="Lucida Console"/>
              </a:rPr>
              <a:t>php</a:t>
            </a: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4.con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 u="sng">
                <a:solidFill>
                  <a:srgbClr val="000000"/>
                </a:solidFill>
                <a:uFillTx/>
                <a:latin typeface="Lucida Console"/>
              </a:rPr>
              <a:t>php</a:t>
            </a: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myadmin.con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 u="sng">
                <a:solidFill>
                  <a:srgbClr val="000000"/>
                </a:solidFill>
                <a:uFillTx/>
                <a:latin typeface="Lucida Console"/>
              </a:rPr>
              <a:t>php</a:t>
            </a: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myadmin.conf.dpkg-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 u="sng">
                <a:solidFill>
                  <a:srgbClr val="000000"/>
                </a:solidFill>
                <a:uFillTx/>
                <a:latin typeface="Lucida Console"/>
              </a:rPr>
              <a:t>php</a:t>
            </a: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myadmin.conf.dpkg-tm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97BFF-7A65-4FB8-82A8-A4AB4957773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3300"/>
                </a:solidFill>
                <a:latin typeface="Arial"/>
              </a:rPr>
              <a:t>Alati: grep</a:t>
            </a: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grep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– osnovni regularni izrazi (grep -G) – pretpostavljeno ponaš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egrep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– prošireni regularni izrazi (grep -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grep -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P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– kompatibilnost sa Perlovim RI (nije uobičajeno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Za bilo kakve složenije izraze koristi se </a:t>
            </a: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egr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DB6B6-DA1D-45E8-9108-5EBBB063187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3300"/>
                </a:solidFill>
                <a:latin typeface="Arial"/>
              </a:rPr>
              <a:t>Digresija</a:t>
            </a: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 – problemi sa shellom</a:t>
            </a: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36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$ 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dop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dopis.t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dopis.txt.g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Hoće li regex: </a:t>
            </a:r>
            <a:r>
              <a:rPr b="0" lang="hr-HR" sz="2400" spc="-1" strike="noStrike">
                <a:solidFill>
                  <a:srgbClr val="000000"/>
                </a:solidFill>
                <a:latin typeface="Lucida Console"/>
                <a:ea typeface="Arial"/>
              </a:rPr>
              <a:t>.\..\..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pronaći datoteku s nazivom dopis.txt.gpg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Teoretski, ne bi trebao, ali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  <a:ea typeface="Arial"/>
              </a:rPr>
              <a:t>$ ls | grep .\..\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  <a:ea typeface="Arial"/>
              </a:rPr>
              <a:t>dop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  <a:ea typeface="Arial"/>
              </a:rPr>
              <a:t>dopis.t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  <a:ea typeface="Arial"/>
              </a:rPr>
              <a:t>dopis.txt.g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CBE05-F86D-4DF6-95B0-79C270830A1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3300"/>
                </a:solidFill>
                <a:latin typeface="Arial"/>
              </a:rPr>
              <a:t>Problemi sa shellom</a:t>
            </a: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U čemu je greška? Unix shell interpretira znakove </a:t>
            </a:r>
            <a:r>
              <a:rPr b="0" lang="hr-HR" sz="2800" spc="-1" strike="noStrike">
                <a:solidFill>
                  <a:srgbClr val="000000"/>
                </a:solidFill>
                <a:latin typeface="Lucida Console"/>
              </a:rPr>
              <a:t>\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hr-HR" sz="2800" spc="-1" strike="noStrike">
                <a:solidFill>
                  <a:srgbClr val="000000"/>
                </a:solidFill>
                <a:latin typeface="Lucida Console"/>
              </a:rPr>
              <a:t>*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hr-HR" sz="2800" spc="-1" strike="noStrike">
                <a:solidFill>
                  <a:srgbClr val="000000"/>
                </a:solidFill>
                <a:latin typeface="Lucida Console"/>
              </a:rPr>
              <a:t>?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hr-HR" sz="2800" spc="-1" strike="noStrike">
                <a:solidFill>
                  <a:srgbClr val="000000"/>
                </a:solidFill>
                <a:latin typeface="Lucida Console"/>
              </a:rPr>
              <a:t>[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hr-HR" sz="2800" spc="-1" strike="noStrike">
                <a:solidFill>
                  <a:srgbClr val="000000"/>
                </a:solidFill>
                <a:latin typeface="Lucida Console"/>
              </a:rPr>
              <a:t>]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hr-HR" sz="2800" spc="-1" strike="noStrike">
                <a:solidFill>
                  <a:srgbClr val="000000"/>
                </a:solidFill>
                <a:latin typeface="Lucida Console"/>
              </a:rPr>
              <a:t>$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koji se koriste i u 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Regularni izraz treba staviti u navodn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Lucida Console"/>
              </a:rPr>
              <a:t>$ ls | grep '.\..\.'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(ne nalazi ništa, kao što je i očekivano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Lucida Console"/>
              </a:rPr>
              <a:t>$ ls | grep '.\....\.'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Lucida Console"/>
              </a:rPr>
              <a:t>dopi</a:t>
            </a:r>
            <a:r>
              <a:rPr b="0" lang="hr-HR" sz="2800" spc="-1" strike="noStrike" u="sng">
                <a:solidFill>
                  <a:srgbClr val="000000"/>
                </a:solidFill>
                <a:uFillTx/>
                <a:latin typeface="Lucida Console"/>
              </a:rPr>
              <a:t>s.txt.</a:t>
            </a:r>
            <a:r>
              <a:rPr b="0" lang="hr-HR" sz="2800" spc="-1" strike="noStrike">
                <a:solidFill>
                  <a:srgbClr val="000000"/>
                </a:solidFill>
                <a:latin typeface="Lucida Console"/>
              </a:rPr>
              <a:t>gp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1E7DB-35B6-4310-9D8F-A1A6B47BA15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P</a:t>
            </a:r>
            <a:r>
              <a:rPr b="0" lang="hr-HR" sz="4400" spc="-1" strike="noStrike">
                <a:solidFill>
                  <a:srgbClr val="ff3300"/>
                </a:solidFill>
                <a:latin typeface="Arial"/>
              </a:rPr>
              <a:t>očet</a:t>
            </a: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a</a:t>
            </a:r>
            <a:r>
              <a:rPr b="0" lang="hr-HR" sz="4400" spc="-1" strike="noStrike">
                <a:solidFill>
                  <a:srgbClr val="ff3300"/>
                </a:solidFill>
                <a:latin typeface="Arial"/>
              </a:rPr>
              <a:t>k</a:t>
            </a: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 retka: </a:t>
            </a:r>
            <a:r>
              <a:rPr b="0" lang="en-US" sz="4400" spc="-1" strike="noStrike">
                <a:solidFill>
                  <a:srgbClr val="ff3300"/>
                </a:solidFill>
                <a:latin typeface="Lucida Console"/>
              </a:rPr>
              <a:t>^</a:t>
            </a: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Regex: </a:t>
            </a:r>
            <a:r>
              <a:rPr b="0" lang="hr-HR" sz="2400" spc="-1" strike="noStrike">
                <a:solidFill>
                  <a:srgbClr val="808080"/>
                </a:solidFill>
                <a:latin typeface="Lucida Console"/>
              </a:rPr>
              <a:t>.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$ grep .u. pop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hr-HR" sz="2400" spc="-1" strike="noStrike" u="sng">
                <a:solidFill>
                  <a:srgbClr val="000000"/>
                </a:solidFill>
                <a:uFillTx/>
                <a:latin typeface="Lucida Console"/>
              </a:rPr>
              <a:t>bur</a:t>
            </a: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ek.dpkg-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s</a:t>
            </a:r>
            <a:r>
              <a:rPr b="0" lang="hr-HR" sz="2400" spc="-1" strike="noStrike" u="sng">
                <a:solidFill>
                  <a:srgbClr val="000000"/>
                </a:solidFill>
                <a:uFillTx/>
                <a:latin typeface="Lucida Console"/>
              </a:rPr>
              <a:t>qui</a:t>
            </a: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rrelmail.con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Provjerite sa </a:t>
            </a:r>
            <a:r>
              <a:rPr b="0" lang="hr-HR" sz="2000" spc="-1" strike="noStrike">
                <a:solidFill>
                  <a:srgbClr val="000000"/>
                </a:solidFill>
                <a:latin typeface="Lucida Console"/>
                <a:ea typeface="Arial"/>
              </a:rPr>
              <a:t>grep -o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Regex: </a:t>
            </a:r>
            <a:r>
              <a:rPr b="0" lang="hr-HR" sz="2400" spc="-1" strike="noStrike">
                <a:solidFill>
                  <a:srgbClr val="808080"/>
                </a:solidFill>
                <a:latin typeface="Lucida Console"/>
              </a:rPr>
              <a:t>^.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^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se podudara sa </a:t>
            </a:r>
            <a:r>
              <a:rPr b="0" i="1" lang="hr-HR" sz="2400" spc="-1" strike="noStrike">
                <a:solidFill>
                  <a:srgbClr val="000000"/>
                </a:solidFill>
                <a:latin typeface="Arial"/>
              </a:rPr>
              <a:t>praznim nizom na početku ret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$ grep ^.u. pop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hr-HR" sz="2400" spc="-1" strike="noStrike" u="sng">
                <a:solidFill>
                  <a:srgbClr val="000000"/>
                </a:solidFill>
                <a:uFillTx/>
                <a:latin typeface="Lucida Console"/>
              </a:rPr>
              <a:t>bur</a:t>
            </a: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ek.dpkg-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hr-HR" sz="2400" spc="-1" strike="noStrike">
                <a:solidFill>
                  <a:srgbClr val="000000"/>
                </a:solidFill>
                <a:latin typeface="Arial"/>
              </a:rPr>
              <a:t>Ne podudara 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i="1" lang="hr-HR" sz="2400" spc="-1" strike="noStrike">
                <a:solidFill>
                  <a:srgbClr val="000000"/>
                </a:solidFill>
                <a:latin typeface="Lucida Console"/>
              </a:rPr>
              <a:t>s</a:t>
            </a:r>
            <a:r>
              <a:rPr b="0" i="1" lang="hr-HR" sz="2400" spc="-1" strike="noStrike" u="sng">
                <a:solidFill>
                  <a:srgbClr val="000000"/>
                </a:solidFill>
                <a:uFillTx/>
                <a:latin typeface="Lucida Console"/>
              </a:rPr>
              <a:t>qui</a:t>
            </a:r>
            <a:r>
              <a:rPr b="0" i="1" lang="hr-HR" sz="2400" spc="-1" strike="noStrike">
                <a:solidFill>
                  <a:srgbClr val="000000"/>
                </a:solidFill>
                <a:latin typeface="Lucida Console"/>
              </a:rPr>
              <a:t>rrelmail.con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844AC-FF37-4856-BD37-D13EC328B70F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3300"/>
                </a:solidFill>
                <a:latin typeface="Arial"/>
              </a:rPr>
              <a:t>Metaznakovi </a:t>
            </a:r>
            <a:r>
              <a:rPr b="0" lang="en-US" sz="4400" spc="-1" strike="noStrike">
                <a:solidFill>
                  <a:srgbClr val="ff3300"/>
                </a:solidFill>
                <a:latin typeface="Lucida Console"/>
              </a:rPr>
              <a:t>^</a:t>
            </a: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 i </a:t>
            </a:r>
            <a:r>
              <a:rPr b="0" lang="en-US" sz="4400" spc="-1" strike="noStrike">
                <a:solidFill>
                  <a:srgbClr val="ff3300"/>
                </a:solidFill>
                <a:latin typeface="Lucida Console"/>
              </a:rPr>
              <a:t>$</a:t>
            </a: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raj retka: 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ogno, $ uparuj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azan niz na kraju ret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$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grep conf$ pop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nothing.con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php4.con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phpmyadmin.con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squirrelmail.con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ssl.con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C308B-A095-424F-BBDF-8CC26170D7E2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Lucida Console"/>
              </a:rPr>
              <a:t>^</a:t>
            </a: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 i </a:t>
            </a:r>
            <a:r>
              <a:rPr b="0" lang="en-US" sz="4400" spc="-1" strike="noStrike">
                <a:solidFill>
                  <a:srgbClr val="ff3300"/>
                </a:solidFill>
                <a:latin typeface="Lucida Console"/>
              </a:rPr>
              <a:t>$</a:t>
            </a:r>
            <a:r>
              <a:rPr b="0" lang="hr-HR" sz="4400" spc="-1" strike="noStrike">
                <a:solidFill>
                  <a:srgbClr val="ff3300"/>
                </a:solidFill>
                <a:latin typeface="Arial"/>
                <a:ea typeface="Arial"/>
              </a:rPr>
              <a:t> primjer</a:t>
            </a: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11280" y="1267920"/>
            <a:ext cx="5194080" cy="48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Lucida Console"/>
              </a:rPr>
              <a:t>$ grep 'n.*' pop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Lucida Console"/>
              </a:rPr>
              <a:t>nothing.con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Lucida Console"/>
              </a:rPr>
              <a:t>php4.con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Lucida Console"/>
              </a:rPr>
              <a:t>phpmyadmin.con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Lucida Console"/>
              </a:rPr>
              <a:t>phpmyadmin.conf.dpkg-o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Lucida Console"/>
              </a:rPr>
              <a:t>phpmyadmin.conf.dpkg-t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Lucida Console"/>
              </a:rPr>
              <a:t>squirrelmail.con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Lucida Console"/>
              </a:rPr>
              <a:t>ssl.con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Lucida Console"/>
              </a:rPr>
              <a:t>$ </a:t>
            </a:r>
            <a:r>
              <a:rPr b="1" lang="hr-HR" sz="1800" spc="-1" strike="noStrike">
                <a:solidFill>
                  <a:srgbClr val="000000"/>
                </a:solidFill>
                <a:latin typeface="Lucida Console"/>
              </a:rPr>
              <a:t>grep '^n.*' pop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Lucida Console"/>
              </a:rPr>
              <a:t>nothing.con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Lucida Console"/>
              </a:rPr>
              <a:t>$ grep '\.conf$' popis </a:t>
            </a:r>
            <a:r>
              <a:rPr b="0" lang="hr-H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</a:t>
            </a:r>
            <a:r>
              <a:rPr b="0" i="1" lang="hr-HR" sz="18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Pazi na točku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Lucida Console"/>
              </a:rPr>
              <a:t>nothing.con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Lucida Console"/>
              </a:rPr>
              <a:t>php4.con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Lucida Console"/>
              </a:rPr>
              <a:t>phpmyadmin.con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Lucida Console"/>
              </a:rPr>
              <a:t>squirrelmail.con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Lucida Console"/>
              </a:rPr>
              <a:t>ssl.con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16000" y="1341360"/>
            <a:ext cx="41864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000000"/>
                </a:solidFill>
                <a:latin typeface="Arial"/>
              </a:rPr>
              <a:t>Na sve primjere za gr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000000"/>
                </a:solidFill>
                <a:latin typeface="Arial"/>
              </a:rPr>
              <a:t>probajte dodati i </a:t>
            </a:r>
            <a:r>
              <a:rPr b="0" i="1" lang="hr-HR" sz="2400" spc="-1" strike="noStrike">
                <a:solidFill>
                  <a:srgbClr val="000000"/>
                </a:solidFill>
                <a:latin typeface="Lucida Console"/>
              </a:rPr>
              <a:t>-o</a:t>
            </a:r>
            <a:r>
              <a:rPr b="0" i="1" lang="hr-HR" sz="2400" spc="-1" strike="noStrike">
                <a:solidFill>
                  <a:srgbClr val="000000"/>
                </a:solidFill>
                <a:latin typeface="Arial"/>
              </a:rPr>
              <a:t> opciju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9BACE-6B3C-4274-9D08-5B5C4ECFFAFC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3300"/>
                </a:solidFill>
                <a:latin typeface="Arial"/>
              </a:rPr>
              <a:t>Metaznakovi </a:t>
            </a:r>
            <a:r>
              <a:rPr b="0" lang="en-US" sz="4400" spc="-1" strike="noStrike">
                <a:solidFill>
                  <a:srgbClr val="ff3300"/>
                </a:solidFill>
                <a:latin typeface="Lucida Console"/>
              </a:rPr>
              <a:t>^</a:t>
            </a: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 i </a:t>
            </a:r>
            <a:r>
              <a:rPr b="0" lang="en-US" sz="4400" spc="-1" strike="noStrike">
                <a:solidFill>
                  <a:srgbClr val="ff3300"/>
                </a:solidFill>
                <a:latin typeface="Lucida Console"/>
              </a:rPr>
              <a:t>$</a:t>
            </a: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Korisni i sami za seb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808080"/>
                </a:solidFill>
                <a:latin typeface="Lucida Console"/>
              </a:rPr>
              <a:t>^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- mjesto početka ret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808080"/>
                </a:solidFill>
                <a:latin typeface="Lucida Console"/>
              </a:rPr>
              <a:t>$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- mjesto kraja ret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808080"/>
                </a:solidFill>
                <a:latin typeface="Lucida Console"/>
              </a:rPr>
              <a:t>^$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- zajedno, poklapaju se samo za prazan redak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Izbaciti sve prazne retke iz datote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grep –v '^$' in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D403C-ACA1-416D-B54E-58C42F644485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klase </a:t>
            </a:r>
            <a:r>
              <a:rPr b="0" lang="en-US" sz="4400" spc="-1" strike="noStrike">
                <a:solidFill>
                  <a:srgbClr val="ff3300"/>
                </a:solidFill>
                <a:latin typeface="Lucida Console"/>
              </a:rPr>
              <a:t>[]</a:t>
            </a: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Lucida Console"/>
              </a:rPr>
              <a:t>[abc]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zna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či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 ovom mjestu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smije biti znak </a:t>
            </a:r>
            <a:r>
              <a:rPr b="0" lang="hr-HR" sz="2800" spc="-1" strike="noStrike">
                <a:solidFill>
                  <a:srgbClr val="000000"/>
                </a:solidFill>
                <a:latin typeface="Lucida Console"/>
              </a:rPr>
              <a:t>a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, ili </a:t>
            </a:r>
            <a:r>
              <a:rPr b="0" lang="hr-HR" sz="2800" spc="-1" strike="noStrike">
                <a:solidFill>
                  <a:srgbClr val="000000"/>
                </a:solidFill>
                <a:latin typeface="Lucida Console"/>
              </a:rPr>
              <a:t>b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, ili </a:t>
            </a:r>
            <a:r>
              <a:rPr b="0" lang="hr-HR" sz="2800" spc="-1" strike="noStrike">
                <a:solidFill>
                  <a:srgbClr val="000000"/>
                </a:solidFill>
                <a:latin typeface="Lucida Console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Lucida Console"/>
              </a:rPr>
              <a:t>[Aa]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zna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či: veliko ili malo </a:t>
            </a:r>
            <a:r>
              <a:rPr b="0" lang="hr-HR" sz="2800" spc="-1" strike="noStrike">
                <a:solidFill>
                  <a:srgbClr val="000000"/>
                </a:solidFill>
                <a:latin typeface="Lucida Console"/>
              </a:rPr>
              <a:t>a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, zatim još jedan zn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Lucida Console"/>
              </a:rPr>
              <a:t>[a-z]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znači: bilo koje malo englesko slo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Lucida Console"/>
              </a:rPr>
              <a:t>[a-zA-Z</a:t>
            </a:r>
            <a:r>
              <a:rPr b="0" lang="hr-HR" sz="2800" spc="-1" strike="noStrike">
                <a:solidFill>
                  <a:srgbClr val="808080"/>
                </a:solidFill>
                <a:latin typeface="Lucida Console"/>
              </a:rPr>
              <a:t>-</a:t>
            </a:r>
            <a:r>
              <a:rPr b="0" lang="en-US" sz="2800" spc="-1" strike="noStrike">
                <a:solidFill>
                  <a:srgbClr val="808080"/>
                </a:solidFill>
                <a:latin typeface="Lucida Console"/>
              </a:rPr>
              <a:t>]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znači: bilo koje malo ili veliko slovo ili cr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Lucida Console"/>
              </a:rPr>
              <a:t>[Rr]eg[</a:t>
            </a:r>
            <a:r>
              <a:rPr b="0" lang="hr-HR" sz="2800" spc="-1" strike="noStrike">
                <a:solidFill>
                  <a:srgbClr val="808080"/>
                </a:solidFill>
                <a:latin typeface="Lucida Console"/>
              </a:rPr>
              <a:t>3</a:t>
            </a:r>
            <a:r>
              <a:rPr b="0" lang="en-US" sz="2800" spc="-1" strike="noStrike">
                <a:solidFill>
                  <a:srgbClr val="808080"/>
                </a:solidFill>
                <a:latin typeface="Lucida Console"/>
              </a:rPr>
              <a:t>Ee]x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se podudara sa 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ex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ex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”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”, “regEx”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9229F-7C5C-4CA8-8528-67F1D344D8FB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3300"/>
                </a:solidFill>
                <a:latin typeface="Arial"/>
              </a:rPr>
              <a:t>klase: primjeri</a:t>
            </a: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$ </a:t>
            </a:r>
            <a:r>
              <a:rPr b="1" lang="hr-HR" sz="2400" spc="-1" strike="noStrike">
                <a:solidFill>
                  <a:srgbClr val="000000"/>
                </a:solidFill>
                <a:latin typeface="Lucida Console"/>
              </a:rPr>
              <a:t>grep '[kgh]' pop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burek.dpkg-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nothing.con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php4.con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phpmyadmin.con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phpmyadmin.conf.dpkg-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phpmyadmin.conf.dpkg-t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$ grep '[A-Z]' pop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DEADJO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$ </a:t>
            </a:r>
            <a:r>
              <a:rPr b="1" lang="hr-HR" sz="2400" spc="-1" strike="noStrike">
                <a:solidFill>
                  <a:srgbClr val="000000"/>
                </a:solidFill>
                <a:latin typeface="Lucida Console"/>
              </a:rPr>
              <a:t>grep '[.]old' popis </a:t>
            </a:r>
            <a:r>
              <a:rPr b="1" lang="hr-H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</a:t>
            </a:r>
            <a:r>
              <a:rPr b="1" lang="hr-HR" sz="2400" spc="-1" strike="noStrike">
                <a:solidFill>
                  <a:srgbClr val="000000"/>
                </a:solidFill>
                <a:latin typeface="Lucida Console"/>
              </a:rPr>
              <a:t> isto kao '\.old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Lucida Console"/>
              </a:rPr>
              <a:t>$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BCFC6-402B-47BC-BCDE-43654EAFC4AB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ff3300"/>
                </a:solidFill>
                <a:latin typeface="Arial"/>
              </a:rPr>
              <a:t>Ab ovo</a:t>
            </a: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Nastali 50-tih god. kao formalno sredstvo za opis sintakse programskih jezika (Computer Scien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Regularni izraz  (RI) je mogao bit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jedan zn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razni string,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 u="sng">
                <a:solidFill>
                  <a:srgbClr val="000000"/>
                </a:solidFill>
                <a:uFillTx/>
                <a:latin typeface="Arial"/>
              </a:rPr>
              <a:t>Spajanje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dva regularna izra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RI1 RI2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– tj. RI1 za kojim slijedi RI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 u="sng">
                <a:solidFill>
                  <a:srgbClr val="000000"/>
                </a:solidFill>
                <a:uFillTx/>
                <a:latin typeface="Arial"/>
              </a:rPr>
              <a:t>Unija</a:t>
            </a:r>
            <a:r>
              <a:rPr b="0" i="1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dva regularna izra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Ri1 | RI2 – RI1 ili RI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Kleenova zvijeda, 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RI* - 0 ili više ponavljanja prethodnog 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F075D-63D4-4177-A8B4-D106769CE4C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3300"/>
                </a:solidFill>
                <a:latin typeface="Arial"/>
              </a:rPr>
              <a:t>klase – postojeće kratice</a:t>
            </a: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[0-9]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znači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bilo koja znamenka, 0 do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kratice za uobičajen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] podizra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\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isto kao </a:t>
            </a: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[0-9]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“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git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\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[a-zA-Z0-9.]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d character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točn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na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čenje ovisi o konkretnom alatu i o lokalizacij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\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praznina (“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ce”)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– razmak, tab, novi r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i još nek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Točka je unutar klase doslov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5661D-3123-4C48-AF10-FAA44A70F8AA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Inverzija klase </a:t>
            </a:r>
            <a:r>
              <a:rPr b="0" lang="en-US" sz="4400" spc="-1" strike="noStrike">
                <a:solidFill>
                  <a:srgbClr val="ff3300"/>
                </a:solidFill>
                <a:latin typeface="Lucida Console"/>
              </a:rPr>
              <a:t>[^...]</a:t>
            </a: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[^X]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bilo koji znak, osim “X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[^0-9a-fA-F]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bilo koji znak osim hex. znamenk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\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bilo koji znak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osi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znamenk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\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bilo koji znak osim slova i brojk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\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podudara se sve osim razma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rimijetite različito značenje za </a:t>
            </a:r>
            <a:r>
              <a:rPr b="0" lang="hr-HR" sz="3200" spc="-1" strike="noStrike">
                <a:solidFill>
                  <a:srgbClr val="000000"/>
                </a:solidFill>
                <a:latin typeface="Lucida Console"/>
              </a:rPr>
              <a:t>^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09492-7546-407B-92E1-5B9CE25CDCAF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3300"/>
                </a:solidFill>
                <a:latin typeface="Arial"/>
              </a:rPr>
              <a:t>klase: primjeri</a:t>
            </a: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$ grep php pop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 u="sng">
                <a:solidFill>
                  <a:srgbClr val="000000"/>
                </a:solidFill>
                <a:uFillTx/>
                <a:latin typeface="Lucida Console"/>
              </a:rPr>
              <a:t>php</a:t>
            </a:r>
            <a:r>
              <a:rPr b="1" lang="hr-HR" sz="2000" spc="-1" strike="noStrike">
                <a:solidFill>
                  <a:srgbClr val="000000"/>
                </a:solidFill>
                <a:latin typeface="Lucida Console"/>
              </a:rPr>
              <a:t>4.con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 u="sng">
                <a:solidFill>
                  <a:srgbClr val="000000"/>
                </a:solidFill>
                <a:uFillTx/>
                <a:latin typeface="Lucida Console"/>
              </a:rPr>
              <a:t>php</a:t>
            </a: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myadmin.con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 u="sng">
                <a:solidFill>
                  <a:srgbClr val="000000"/>
                </a:solidFill>
                <a:uFillTx/>
                <a:latin typeface="Lucida Console"/>
              </a:rPr>
              <a:t>php</a:t>
            </a: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myadmin.conf.dpkg-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 u="sng">
                <a:solidFill>
                  <a:srgbClr val="000000"/>
                </a:solidFill>
                <a:uFillTx/>
                <a:latin typeface="Lucida Console"/>
              </a:rPr>
              <a:t>php</a:t>
            </a: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myadmin.conf.dpkg-tm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$ </a:t>
            </a:r>
            <a:r>
              <a:rPr b="1" lang="hr-HR" sz="2000" spc="-1" strike="noStrike">
                <a:solidFill>
                  <a:srgbClr val="000000"/>
                </a:solidFill>
                <a:latin typeface="Lucida Console"/>
              </a:rPr>
              <a:t>grep 'php[^4]' pop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 u="sng">
                <a:solidFill>
                  <a:srgbClr val="000000"/>
                </a:solidFill>
                <a:uFillTx/>
                <a:latin typeface="Lucida Console"/>
              </a:rPr>
              <a:t>phpm</a:t>
            </a: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yadmin.con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 u="sng">
                <a:solidFill>
                  <a:srgbClr val="000000"/>
                </a:solidFill>
                <a:uFillTx/>
                <a:latin typeface="Lucida Console"/>
              </a:rPr>
              <a:t>phpm</a:t>
            </a: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yadmin.conf.dpkg-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 u="sng">
                <a:solidFill>
                  <a:srgbClr val="000000"/>
                </a:solidFill>
                <a:uFillTx/>
                <a:latin typeface="Lucida Console"/>
              </a:rPr>
              <a:t>phpm</a:t>
            </a: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yadmin.conf.dpkg-tmp </a:t>
            </a:r>
            <a:r>
              <a:rPr b="1" lang="hr-H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</a:t>
            </a:r>
            <a:r>
              <a:rPr b="1" lang="hr-HR" sz="20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bi li </a:t>
            </a: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"index.php"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 proša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$ echo Proba | grep '[A-Z]'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 u="sng">
                <a:solidFill>
                  <a:srgbClr val="000000"/>
                </a:solidFill>
                <a:uFillTx/>
                <a:latin typeface="Lucida Console"/>
              </a:rPr>
              <a:t>P</a:t>
            </a: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ro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$ echo Proba | grep '[^A-Z]'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P</a:t>
            </a:r>
            <a:r>
              <a:rPr b="0" lang="hr-HR" sz="2000" spc="-1" strike="noStrike" u="sng">
                <a:solidFill>
                  <a:srgbClr val="000000"/>
                </a:solidFill>
                <a:uFillTx/>
                <a:latin typeface="Lucida Console"/>
              </a:rPr>
              <a:t>ro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BD336-6176-42D7-95A0-684A090B34F6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3300"/>
                </a:solidFill>
                <a:latin typeface="Arial"/>
              </a:rPr>
              <a:t>Ponavljanje</a:t>
            </a: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Lucida Console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dan, neobavezni, znak A (doslovno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0 ili 1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ponavljanje izraz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[0-9]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ijedna, jedna ili vi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namenk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[</a:t>
            </a:r>
            <a:r>
              <a:rPr b="0" lang="hr-HR" sz="3200" spc="-1" strike="noStrike">
                <a:solidFill>
                  <a:srgbClr val="000000"/>
                </a:solidFill>
                <a:latin typeface="Lucida Console"/>
              </a:rPr>
              <a:t>0-9</a:t>
            </a: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]</a:t>
            </a:r>
            <a:r>
              <a:rPr b="0" lang="hr-HR" sz="3200" spc="-1" strike="noStrike">
                <a:solidFill>
                  <a:srgbClr val="000000"/>
                </a:solidFill>
                <a:latin typeface="Lucida Console"/>
              </a:rPr>
              <a:t>+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dna ili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više znamenk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19A0B-3C51-415B-BCE1-9C78158870FE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3300"/>
                </a:solidFill>
                <a:latin typeface="Arial"/>
              </a:rPr>
              <a:t>Građenje izraza s ponavljanjem</a:t>
            </a: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Tražimo datoteke sa dvije "ekstenzije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$ ls | grep '\....\....'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npp</a:t>
            </a:r>
            <a:r>
              <a:rPr b="0" lang="hr-HR" sz="2400" spc="-1" strike="noStrike" u="sng">
                <a:solidFill>
                  <a:srgbClr val="000000"/>
                </a:solidFill>
                <a:uFillTx/>
                <a:latin typeface="Lucida Console"/>
              </a:rPr>
              <a:t>.3.2.Ins</a:t>
            </a: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taller.exe</a:t>
            </a: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passwds</a:t>
            </a:r>
            <a:r>
              <a:rPr b="0" lang="hr-HR" sz="2400" spc="-1" strike="noStrike" u="sng">
                <a:solidFill>
                  <a:srgbClr val="000000"/>
                </a:solidFill>
                <a:uFillTx/>
                <a:latin typeface="Lucida Console"/>
              </a:rPr>
              <a:t>.txt.g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plazma-0.0</a:t>
            </a:r>
            <a:r>
              <a:rPr b="0" lang="hr-HR" sz="2400" spc="-1" strike="noStrike" u="sng">
                <a:solidFill>
                  <a:srgbClr val="000000"/>
                </a:solidFill>
                <a:uFillTx/>
                <a:latin typeface="Lucida Console"/>
              </a:rPr>
              <a:t>.6-1.i58</a:t>
            </a: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6.r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politika.</a:t>
            </a:r>
            <a:r>
              <a:rPr b="0" lang="hr-HR" sz="2400" spc="-1" strike="noStrike" u="sng">
                <a:solidFill>
                  <a:srgbClr val="000000"/>
                </a:solidFill>
                <a:uFillTx/>
                <a:latin typeface="Lucida Console"/>
              </a:rPr>
              <a:t>txt.ori</a:t>
            </a: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skype_1</a:t>
            </a:r>
            <a:r>
              <a:rPr b="0" lang="hr-HR" sz="2400" spc="-1" strike="noStrike" u="sng">
                <a:solidFill>
                  <a:srgbClr val="000000"/>
                </a:solidFill>
                <a:uFillTx/>
                <a:latin typeface="Lucida Console"/>
              </a:rPr>
              <a:t>.2.0.18-</a:t>
            </a: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1_i386.deb </a:t>
            </a:r>
            <a:r>
              <a:rPr b="0" lang="hr-H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</a:t>
            </a: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 grep -o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tahoma-regular-12</a:t>
            </a:r>
            <a:r>
              <a:rPr b="0" lang="hr-HR" sz="2400" spc="-1" strike="noStrike" u="sng">
                <a:solidFill>
                  <a:srgbClr val="000000"/>
                </a:solidFill>
                <a:uFillTx/>
                <a:latin typeface="Lucida Console"/>
              </a:rPr>
              <a:t>.bdf.B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$ ls | grep '\....\....$'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passwds</a:t>
            </a:r>
            <a:r>
              <a:rPr b="0" lang="hr-HR" sz="2400" spc="-1" strike="noStrike" u="sng">
                <a:solidFill>
                  <a:srgbClr val="000000"/>
                </a:solidFill>
                <a:uFillTx/>
                <a:latin typeface="Lucida Console"/>
              </a:rPr>
              <a:t>.txt.g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tahoma-regular-12</a:t>
            </a:r>
            <a:r>
              <a:rPr b="0" lang="hr-HR" sz="2400" spc="-1" strike="noStrike" u="sng">
                <a:solidFill>
                  <a:srgbClr val="000000"/>
                </a:solidFill>
                <a:uFillTx/>
                <a:latin typeface="Lucida Console"/>
              </a:rPr>
              <a:t>.bdf.BAK</a:t>
            </a: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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... a ostal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D444A-4A14-4468-A130-2E557373B83B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3300"/>
                </a:solidFill>
                <a:latin typeface="Arial"/>
              </a:rPr>
              <a:t>Građenje izraza</a:t>
            </a: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$ ls | grep '\..*\..*$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npp</a:t>
            </a:r>
            <a:r>
              <a:rPr b="0" lang="hr-HR" sz="2400" spc="-1" strike="noStrike" u="sng">
                <a:solidFill>
                  <a:srgbClr val="000000"/>
                </a:solidFill>
                <a:uFillTx/>
                <a:latin typeface="Lucida Console"/>
              </a:rPr>
              <a:t>.3.2.Installer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passwds</a:t>
            </a:r>
            <a:r>
              <a:rPr b="0" lang="hr-HR" sz="2400" spc="-1" strike="noStrike" u="sng">
                <a:solidFill>
                  <a:srgbClr val="000000"/>
                </a:solidFill>
                <a:uFillTx/>
                <a:latin typeface="Lucida Console"/>
              </a:rPr>
              <a:t>.txt.g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perl_5</a:t>
            </a:r>
            <a:r>
              <a:rPr b="0" lang="hr-HR" sz="2400" spc="-1" strike="noStrike" u="sng">
                <a:solidFill>
                  <a:srgbClr val="000000"/>
                </a:solidFill>
                <a:uFillTx/>
                <a:latin typeface="Lucida Console"/>
              </a:rPr>
              <a:t>.8.0-3_incr.di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plazma-0</a:t>
            </a:r>
            <a:r>
              <a:rPr b="0" lang="hr-HR" sz="2400" spc="-1" strike="noStrike" u="sng">
                <a:solidFill>
                  <a:srgbClr val="000000"/>
                </a:solidFill>
                <a:uFillTx/>
                <a:latin typeface="Lucida Console"/>
              </a:rPr>
              <a:t>.0.6-1.i586.r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politika</a:t>
            </a:r>
            <a:r>
              <a:rPr b="0" lang="hr-HR" sz="2400" spc="-1" strike="noStrike" u="sng">
                <a:solidFill>
                  <a:srgbClr val="000000"/>
                </a:solidFill>
                <a:uFillTx/>
                <a:latin typeface="Lucida Console"/>
              </a:rPr>
              <a:t>.txt.ori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pomet</a:t>
            </a:r>
            <a:r>
              <a:rPr b="0" lang="hr-HR" sz="2400" spc="-1" strike="noStrike" u="sng">
                <a:solidFill>
                  <a:srgbClr val="000000"/>
                </a:solidFill>
                <a:uFillTx/>
                <a:latin typeface="Lucida Console"/>
              </a:rPr>
              <a:t>.skey.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postits</a:t>
            </a:r>
            <a:r>
              <a:rPr b="0" lang="hr-HR" sz="2400" spc="-1" strike="noStrike" u="sng">
                <a:solidFill>
                  <a:srgbClr val="000000"/>
                </a:solidFill>
                <a:uFillTx/>
                <a:latin typeface="Lucida Console"/>
              </a:rPr>
              <a:t>.tar.g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silo</a:t>
            </a:r>
            <a:r>
              <a:rPr b="0" lang="hr-HR" sz="2400" spc="-1" strike="noStrike" u="sng">
                <a:solidFill>
                  <a:srgbClr val="000000"/>
                </a:solidFill>
                <a:uFillTx/>
                <a:latin typeface="Lucida Console"/>
              </a:rPr>
              <a:t>.conf.b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silo</a:t>
            </a:r>
            <a:r>
              <a:rPr b="0" lang="hr-HR" sz="2400" spc="-1" strike="noStrike" u="sng">
                <a:solidFill>
                  <a:srgbClr val="000000"/>
                </a:solidFill>
                <a:uFillTx/>
                <a:latin typeface="Lucida Console"/>
              </a:rPr>
              <a:t>.conf.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skype_1</a:t>
            </a:r>
            <a:r>
              <a:rPr b="0" lang="hr-HR" sz="2400" spc="-1" strike="noStrike" u="sng">
                <a:solidFill>
                  <a:srgbClr val="000000"/>
                </a:solidFill>
                <a:uFillTx/>
                <a:latin typeface="Lucida Console"/>
              </a:rPr>
              <a:t>.2.0.18-1_i386.d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squirrelmail-change-pass-cn_2</a:t>
            </a:r>
            <a:r>
              <a:rPr b="0" lang="hr-HR" sz="2400" spc="-1" strike="noStrike" u="sng">
                <a:solidFill>
                  <a:srgbClr val="000000"/>
                </a:solidFill>
                <a:uFillTx/>
                <a:latin typeface="Lucida Console"/>
              </a:rPr>
              <a:t>.6-1_all.d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tahoma-regular-12</a:t>
            </a:r>
            <a:r>
              <a:rPr b="0" lang="hr-HR" sz="2400" spc="-1" strike="noStrike" u="sng">
                <a:solidFill>
                  <a:srgbClr val="000000"/>
                </a:solidFill>
                <a:uFillTx/>
                <a:latin typeface="Lucida Console"/>
              </a:rPr>
              <a:t>.bdf.B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2D599-A5E7-44BC-ADD4-36B31955ED84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3300"/>
                </a:solidFill>
                <a:latin typeface="Arial"/>
              </a:rPr>
              <a:t>Građenje izraza</a:t>
            </a: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$ ls | grep '\.[^.]*\.[^.]*$'</a:t>
            </a:r>
            <a:r>
              <a:rPr b="0" lang="hr-H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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 više nije bilo koji zn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npp.3.2</a:t>
            </a:r>
            <a:r>
              <a:rPr b="0" lang="hr-HR" sz="2400" spc="-1" strike="noStrike" u="sng">
                <a:solidFill>
                  <a:srgbClr val="000000"/>
                </a:solidFill>
                <a:uFillTx/>
                <a:latin typeface="Lucida Console"/>
              </a:rPr>
              <a:t>.Installer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passwds</a:t>
            </a:r>
            <a:r>
              <a:rPr b="0" lang="hr-HR" sz="2400" spc="-1" strike="noStrike" u="sng">
                <a:solidFill>
                  <a:srgbClr val="000000"/>
                </a:solidFill>
                <a:uFillTx/>
                <a:latin typeface="Lucida Console"/>
              </a:rPr>
              <a:t>.txt.g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perl_5.8</a:t>
            </a:r>
            <a:r>
              <a:rPr b="0" lang="hr-HR" sz="2400" spc="-1" strike="noStrike" u="sng">
                <a:solidFill>
                  <a:srgbClr val="000000"/>
                </a:solidFill>
                <a:uFillTx/>
                <a:latin typeface="Lucida Console"/>
              </a:rPr>
              <a:t>.0-3_incr.di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plazma-0.0.6-1</a:t>
            </a:r>
            <a:r>
              <a:rPr b="0" lang="hr-HR" sz="2400" spc="-1" strike="noStrike" u="sng">
                <a:solidFill>
                  <a:srgbClr val="000000"/>
                </a:solidFill>
                <a:uFillTx/>
                <a:latin typeface="Lucida Console"/>
              </a:rPr>
              <a:t>.i586.r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politika</a:t>
            </a:r>
            <a:r>
              <a:rPr b="0" lang="hr-HR" sz="2400" spc="-1" strike="noStrike" u="sng">
                <a:solidFill>
                  <a:srgbClr val="000000"/>
                </a:solidFill>
                <a:uFillTx/>
                <a:latin typeface="Lucida Console"/>
              </a:rPr>
              <a:t>.txt.ori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pomet</a:t>
            </a:r>
            <a:r>
              <a:rPr b="0" lang="hr-HR" sz="2400" spc="-1" strike="noStrike" u="sng">
                <a:solidFill>
                  <a:srgbClr val="000000"/>
                </a:solidFill>
                <a:uFillTx/>
                <a:latin typeface="Lucida Console"/>
              </a:rPr>
              <a:t>.skey.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postits</a:t>
            </a:r>
            <a:r>
              <a:rPr b="0" lang="hr-HR" sz="2400" spc="-1" strike="noStrike" u="sng">
                <a:solidFill>
                  <a:srgbClr val="000000"/>
                </a:solidFill>
                <a:uFillTx/>
                <a:latin typeface="Lucida Console"/>
              </a:rPr>
              <a:t>.tar.g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silo</a:t>
            </a:r>
            <a:r>
              <a:rPr b="0" lang="hr-HR" sz="2400" spc="-1" strike="noStrike" u="sng">
                <a:solidFill>
                  <a:srgbClr val="000000"/>
                </a:solidFill>
                <a:uFillTx/>
                <a:latin typeface="Lucida Console"/>
              </a:rPr>
              <a:t>.conf.b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silo</a:t>
            </a:r>
            <a:r>
              <a:rPr b="0" lang="hr-HR" sz="2400" spc="-1" strike="noStrike" u="sng">
                <a:solidFill>
                  <a:srgbClr val="000000"/>
                </a:solidFill>
                <a:uFillTx/>
                <a:latin typeface="Lucida Console"/>
              </a:rPr>
              <a:t>.conf.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skype_1.2.0</a:t>
            </a:r>
            <a:r>
              <a:rPr b="0" lang="hr-HR" sz="2400" spc="-1" strike="noStrike" u="sng">
                <a:solidFill>
                  <a:srgbClr val="000000"/>
                </a:solidFill>
                <a:uFillTx/>
                <a:latin typeface="Lucida Console"/>
              </a:rPr>
              <a:t>.18-1_i386.d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squirrelmail-change-pass-cn_2</a:t>
            </a:r>
            <a:r>
              <a:rPr b="0" lang="hr-HR" sz="2400" spc="-1" strike="noStrike" u="sng">
                <a:solidFill>
                  <a:srgbClr val="000000"/>
                </a:solidFill>
                <a:uFillTx/>
                <a:latin typeface="Lucida Console"/>
              </a:rPr>
              <a:t>.6-1_all.d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tahoma-regular-12</a:t>
            </a:r>
            <a:r>
              <a:rPr b="0" lang="hr-HR" sz="2400" spc="-1" strike="noStrike" u="sng">
                <a:solidFill>
                  <a:srgbClr val="000000"/>
                </a:solidFill>
                <a:uFillTx/>
                <a:latin typeface="Lucida Console"/>
              </a:rPr>
              <a:t>.bdf.B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B6518-9402-4F39-B4C3-C77D1B779BB9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3300"/>
                </a:solidFill>
                <a:latin typeface="Arial"/>
              </a:rPr>
              <a:t>Ponavljanje – </a:t>
            </a: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{n}</a:t>
            </a: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ti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časte zagrade: broj unutar zagrade znači broj ponavljanja prethodnog znaka/izra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A{n}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uparuje se sa točno n ponavljanja izraza </a:t>
            </a: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A{n,}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barem n ponavljanja izraza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A{n,m}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između n i m ponavlja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182E1-5025-4EFB-9C69-2266736A8ED2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3300"/>
                </a:solidFill>
                <a:latin typeface="Arial"/>
              </a:rPr>
              <a:t>Ponavljanje – </a:t>
            </a: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{n}</a:t>
            </a: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{3}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  – "AAA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\w{3}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3 slova ili znamen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[0-9 -]{6,}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barem 6 znamenki, razmaka ili cr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lokalni telefonski bro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[0-9]{13}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aivna provjera ispravnosti JMBG-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ko je pobolj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šat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[0-9]{1,4}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jedna do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č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 znamenk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59CD4-FA7A-4A56-992B-E8DD188BDD80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3300"/>
                </a:solidFill>
                <a:latin typeface="Arial"/>
              </a:rPr>
              <a:t>Ponavljanja: primjer</a:t>
            </a: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$ </a:t>
            </a:r>
            <a:r>
              <a:rPr b="1" lang="hr-HR" sz="2000" spc="-1" strike="noStrike">
                <a:solidFill>
                  <a:srgbClr val="000000"/>
                </a:solidFill>
                <a:latin typeface="Lucida Console"/>
              </a:rPr>
              <a:t>grep 'php4?' pop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 u="sng">
                <a:solidFill>
                  <a:srgbClr val="000000"/>
                </a:solidFill>
                <a:uFillTx/>
                <a:latin typeface="Lucida Console"/>
              </a:rPr>
              <a:t>php4</a:t>
            </a: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.con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 u="sng">
                <a:solidFill>
                  <a:srgbClr val="000000"/>
                </a:solidFill>
                <a:uFillTx/>
                <a:latin typeface="Lucida Console"/>
              </a:rPr>
              <a:t>php</a:t>
            </a: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myadmin.con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 u="sng">
                <a:solidFill>
                  <a:srgbClr val="000000"/>
                </a:solidFill>
                <a:uFillTx/>
                <a:latin typeface="Lucida Console"/>
              </a:rPr>
              <a:t>php</a:t>
            </a: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myadmin.conf.dpkg-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 u="sng">
                <a:solidFill>
                  <a:srgbClr val="000000"/>
                </a:solidFill>
                <a:uFillTx/>
                <a:latin typeface="Lucida Console"/>
              </a:rPr>
              <a:t>php</a:t>
            </a: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myadmin.conf.dpkg-tm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$ </a:t>
            </a:r>
            <a:r>
              <a:rPr b="1" lang="hr-HR" sz="2000" spc="-1" strike="noStrike">
                <a:solidFill>
                  <a:srgbClr val="000000"/>
                </a:solidFill>
                <a:latin typeface="Lucida Console"/>
              </a:rPr>
              <a:t>grep -o 'b*' pop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$ </a:t>
            </a:r>
            <a:r>
              <a:rPr b="1" lang="hr-HR" sz="2000" spc="-1" strike="noStrike">
                <a:solidFill>
                  <a:srgbClr val="000000"/>
                </a:solidFill>
                <a:latin typeface="Lucida Console"/>
              </a:rPr>
              <a:t>grep -o 'b.+' pop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burek.dpkg-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000" spc="-1" strike="noStrike">
                <a:solidFill>
                  <a:srgbClr val="000000"/>
                </a:solidFill>
                <a:latin typeface="Lucida Console"/>
              </a:rPr>
              <a:t># </a:t>
            </a:r>
            <a:r>
              <a:rPr b="0" i="1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svi telefonski brojevi korisni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$ egrep –o \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'[[:digit:]]{6,10}' \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/etc/freeradradiusd.l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2234146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128875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128153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288496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012345678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288496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[...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56659-BC9A-4EE1-9F33-65BC2AA72584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ff3300"/>
                </a:solidFill>
                <a:latin typeface="Arial"/>
              </a:rPr>
              <a:t>Ab ovo</a:t>
            </a: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rva implementacija je u izvornom editoru teksta na Unixu - 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Kasnije u mnogim alatima: </a:t>
            </a:r>
            <a:r>
              <a:rPr b="0" i="1" lang="hr-HR" sz="2800" spc="-1" strike="noStrike">
                <a:solidFill>
                  <a:srgbClr val="000000"/>
                </a:solidFill>
                <a:latin typeface="Arial"/>
              </a:rPr>
              <a:t>grep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hr-HR" sz="2800" spc="-1" strike="noStrike">
                <a:solidFill>
                  <a:srgbClr val="000000"/>
                </a:solidFill>
                <a:latin typeface="Arial"/>
              </a:rPr>
              <a:t>sed, find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it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u jezicima </a:t>
            </a:r>
            <a:r>
              <a:rPr b="0" i="1" lang="hr-HR" sz="2800" spc="-1" strike="noStrike">
                <a:solidFill>
                  <a:srgbClr val="000000"/>
                </a:solidFill>
                <a:latin typeface="Arial"/>
              </a:rPr>
              <a:t>perl, python, Java, .Net, JavaScript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rogramima: </a:t>
            </a:r>
            <a:r>
              <a:rPr b="0" i="1" lang="hr-HR" sz="2800" spc="-1" strike="noStrike">
                <a:solidFill>
                  <a:srgbClr val="000000"/>
                </a:solidFill>
                <a:latin typeface="Arial"/>
              </a:rPr>
              <a:t>v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F09A8-EF99-480F-8ACB-A123D210B41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3300"/>
                </a:solidFill>
                <a:latin typeface="Arial"/>
              </a:rPr>
              <a:t>grep -o zadatak</a:t>
            </a: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Iz </a:t>
            </a:r>
            <a:r>
              <a:rPr b="0" lang="hr-HR" sz="3200" spc="-1" strike="noStrike">
                <a:solidFill>
                  <a:srgbClr val="000000"/>
                </a:solidFill>
                <a:latin typeface="Lucida Console"/>
              </a:rPr>
              <a:t>/var/log/mail.log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izvući mail adrese nepostojećih lokalnih primatel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grep –o za ispis samo bitnih nizo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Uputa: ponekad treba više od jedne naredbe u pipe-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Uputa 2: obrisati nepoželjne znakove sa tr –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rimjer sendmail loga:</a:t>
            </a:r>
            <a:br>
              <a:rPr sz="2400"/>
            </a:br>
            <a:r>
              <a:rPr b="0" lang="hr-HR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regex.ifzg.hr/primjeri/mail.log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0DDDC-0DB6-4A45-B935-DB26A4ED695A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3300"/>
                </a:solidFill>
                <a:latin typeface="Arial"/>
              </a:rPr>
              <a:t>grep -o zadatak</a:t>
            </a: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3440"/>
            <a:ext cx="822960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Iz </a:t>
            </a: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/var/log/mail.log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izvući mail adrese nepostojećih lokalnih primatel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Moguće rješenj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$</a:t>
            </a: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grep 'User unknown' /var/log/mail.log | \</a:t>
            </a:r>
            <a:br>
              <a:rPr sz="2000"/>
            </a:b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grep -o '&lt;.*&gt;' | tr –d '&lt;&gt;'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ndrie@ozgf.h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moilne@zogf.h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ndrie@ozgf.h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jommy@zolost.zogf.h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moilne@zogf.h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ime_lacoc@nit.hr</a:t>
            </a:r>
            <a:r>
              <a:rPr b="0" lang="hr-HR" sz="2000" spc="-1" strike="noStrike" u="sng">
                <a:solidFill>
                  <a:srgbClr val="000000"/>
                </a:solidFill>
                <a:uFillTx/>
                <a:latin typeface="Lucida Console"/>
              </a:rPr>
              <a:t>, ctladdr=senje@ozfg.h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Što sa viškom iz zadnjeg retk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F5EC4-5BEC-4226-A88B-DD3EA3455780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3300"/>
                </a:solidFill>
                <a:latin typeface="Arial"/>
              </a:rPr>
              <a:t>Greediness</a:t>
            </a: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Metaznakovi </a:t>
            </a:r>
            <a:r>
              <a:rPr b="0" lang="hr-HR" sz="2400" spc="-1" strike="noStrike">
                <a:solidFill>
                  <a:srgbClr val="808080"/>
                </a:solidFill>
                <a:latin typeface="Lucida Console"/>
              </a:rPr>
              <a:t>*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hr-HR" sz="2400" spc="-1" strike="noStrike">
                <a:solidFill>
                  <a:srgbClr val="808080"/>
                </a:solidFill>
                <a:latin typeface="Lucida Console"/>
              </a:rPr>
              <a:t>+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, i </a:t>
            </a:r>
            <a:r>
              <a:rPr b="0" lang="hr-HR" sz="2400" spc="-1" strike="noStrike">
                <a:solidFill>
                  <a:srgbClr val="808080"/>
                </a:solidFill>
                <a:latin typeface="Lucida Console"/>
              </a:rPr>
              <a:t>{n,}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uvijek pokušavaju pokupiti najdulji mogući niz, "pohlepni" s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grep 'User unknown' /var/log/mail.log | grep '&lt;.*&gt;'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Lucida Console"/>
              </a:rPr>
              <a:t>[...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Lucida Console"/>
              </a:rPr>
              <a:t>Feb 14 09:55:55 filist sm-mta[23447]: k1E8akei024081: to=</a:t>
            </a:r>
            <a:r>
              <a:rPr b="0" lang="hr-HR" sz="1800" spc="-1" strike="noStrike" u="sng">
                <a:solidFill>
                  <a:srgbClr val="000000"/>
                </a:solidFill>
                <a:uFillTx/>
                <a:latin typeface="Lucida Console"/>
              </a:rPr>
              <a:t>&lt;ime_lacoc@nit.hr&gt;, ctladdr=&lt;senje@ozgf.hr&gt;</a:t>
            </a:r>
            <a:r>
              <a:rPr b="0" lang="hr-HR" sz="1800" spc="-1" strike="noStrike">
                <a:solidFill>
                  <a:srgbClr val="000000"/>
                </a:solidFill>
                <a:latin typeface="Lucida Console"/>
              </a:rPr>
              <a:t> (268/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Lucida Console"/>
              </a:rPr>
              <a:t>[...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Izbjeći </a:t>
            </a:r>
            <a:r>
              <a:rPr b="0" lang="hr-HR" sz="2400" spc="-1" strike="noStrike">
                <a:solidFill>
                  <a:srgbClr val="808080"/>
                </a:solidFill>
                <a:latin typeface="Lucida Console"/>
                <a:ea typeface="Arial"/>
              </a:rPr>
              <a:t>.*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konstrukcij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grep 'User unknown' /var/log/mail.log | \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egrep '&lt;[^&gt;]*&gt;'</a:t>
            </a: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</a:t>
            </a: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sve osim "</a:t>
            </a:r>
            <a:r>
              <a:rPr b="0" lang="hr-HR" sz="2000" spc="-1" strike="noStrike">
                <a:solidFill>
                  <a:srgbClr val="000000"/>
                </a:solidFill>
                <a:latin typeface="Lucida Console"/>
                <a:ea typeface="Arial"/>
              </a:rPr>
              <a:t>&gt;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Lucida Console"/>
              </a:rPr>
              <a:t>[...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Lucida Console"/>
              </a:rPr>
              <a:t>Feb 14 09:55:55 filist sm-mta[23447]: k1E8akei024081: to=</a:t>
            </a:r>
            <a:r>
              <a:rPr b="0" lang="hr-HR" sz="1800" spc="-1" strike="noStrike" u="sng">
                <a:solidFill>
                  <a:srgbClr val="000000"/>
                </a:solidFill>
                <a:uFillTx/>
                <a:latin typeface="Lucida Console"/>
              </a:rPr>
              <a:t>&lt;ime_lacoc@nit.hr&gt;</a:t>
            </a:r>
            <a:r>
              <a:rPr b="0" lang="hr-HR" sz="1800" spc="-1" strike="noStrike">
                <a:solidFill>
                  <a:srgbClr val="000000"/>
                </a:solidFill>
                <a:latin typeface="Lucida Console"/>
              </a:rPr>
              <a:t>, ctladdr=</a:t>
            </a:r>
            <a:r>
              <a:rPr b="0" lang="hr-HR" sz="1800" spc="-1" strike="noStrike" u="sng">
                <a:solidFill>
                  <a:srgbClr val="000000"/>
                </a:solidFill>
                <a:uFillTx/>
                <a:latin typeface="Lucida Console"/>
              </a:rPr>
              <a:t>&lt;senje@ozgf.hr&gt;</a:t>
            </a:r>
            <a:r>
              <a:rPr b="0" lang="hr-HR" sz="1800" spc="-1" strike="noStrike">
                <a:solidFill>
                  <a:srgbClr val="000000"/>
                </a:solidFill>
                <a:latin typeface="Lucida Console"/>
              </a:rPr>
              <a:t> (268/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...ali grep uvijek vraća sve pogotke u retku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CBEF0-E664-41D4-8A2A-A3DDC292082E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3300"/>
                </a:solidFill>
                <a:latin typeface="Arial"/>
              </a:rPr>
              <a:t>Greediness</a:t>
            </a: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Precizniji izraz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grep 'User unknown' /var/log/mail.log | \</a:t>
            </a:r>
            <a:br>
              <a:rPr sz="2000"/>
            </a:b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egrep –o 'to=&lt;[^&gt;]*&gt;' | tr –d '&lt;&gt;' | sed 's/to=//'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Lucida Console"/>
              </a:rPr>
              <a:t>[...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 u="sng">
                <a:solidFill>
                  <a:srgbClr val="000000"/>
                </a:solidFill>
                <a:uFillTx/>
                <a:latin typeface="Lucida Console"/>
              </a:rPr>
              <a:t>ime_lacoc@nit.h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grep 'User unknown' /var/log/mail.log | \</a:t>
            </a:r>
            <a:br>
              <a:rPr sz="2000"/>
            </a:b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egrep –o ' &lt;[^&gt;]*&gt;' | tr –d '&lt;&gt;'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98F39-FF50-461C-A084-878CCE8763C6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3300"/>
                </a:solidFill>
                <a:latin typeface="Arial"/>
              </a:rPr>
              <a:t>Laziness</a:t>
            </a: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Perl, python, itd. imaju</a:t>
            </a:r>
            <a:br>
              <a:rPr sz="2400"/>
            </a:br>
            <a:r>
              <a:rPr b="0" lang="hr-HR" sz="2400" spc="-1" strike="noStrike">
                <a:solidFill>
                  <a:srgbClr val="000000"/>
                </a:solidFill>
                <a:latin typeface="Lucida Console"/>
                <a:ea typeface="Arial"/>
              </a:rPr>
              <a:t>? m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odifikator dodan nakon </a:t>
            </a:r>
            <a:r>
              <a:rPr b="0" lang="hr-HR" sz="2400" spc="-1" strike="noStrike">
                <a:solidFill>
                  <a:srgbClr val="000000"/>
                </a:solidFill>
                <a:latin typeface="Lucida Console"/>
                <a:ea typeface="Arial"/>
              </a:rPr>
              <a:t>*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hr-HR" sz="2400" spc="-1" strike="noStrike">
                <a:solidFill>
                  <a:srgbClr val="000000"/>
                </a:solidFill>
                <a:latin typeface="Lucida Console"/>
                <a:ea typeface="Arial"/>
              </a:rPr>
              <a:t>+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mijenja ponašanje iz "pohlepnosti" u "lijenos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grep 'User unknown' /var/log/mail.log | \</a:t>
            </a:r>
            <a:br>
              <a:rPr sz="2400"/>
            </a:b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perl –ne 'print $1."\n" if /&lt;(.*)&gt;/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Lucida Console"/>
                <a:ea typeface="Arial"/>
              </a:rPr>
              <a:t>[...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Lucida Console"/>
                <a:ea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grep 'User unknown' /var/log/mail.log | \</a:t>
            </a:r>
            <a:br>
              <a:rPr sz="2400"/>
            </a:b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perl –ne 'print $1."\n" if /&lt;(.*?)&gt;/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Lucida Console"/>
                <a:ea typeface="Arial"/>
              </a:rPr>
              <a:t>[...]</a:t>
            </a:r>
            <a:r>
              <a:rPr b="0" lang="hr-HR" sz="2400" spc="-1" strike="noStrike">
                <a:solidFill>
                  <a:srgbClr val="000000"/>
                </a:solidFill>
                <a:latin typeface="Lucida Console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BF6CB-C9F6-40D8-A194-65426BAC834D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3300"/>
                </a:solidFill>
                <a:latin typeface="Arial"/>
              </a:rPr>
              <a:t>Unija, </a:t>
            </a: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|</a:t>
            </a: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daj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“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OR)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, alternativni uzor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Mr|Miss|M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Niz se podudara sa kombiniranim izrazom ako se podudara sa bar jednim od izra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rednost ima lijevi izra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Neke implementacije uvijek nalaze najdulji izraz!</a:t>
            </a:r>
            <a:br>
              <a:rPr sz="2400"/>
            </a:b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Ovome ćemo se vratiti kasnij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Ovo je “extended” regular ex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Za sed i grep | ("štanga") je običan znak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(Mr|Miss|M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951FC-91A1-4110-B007-0F2A4A7E8525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3300"/>
                </a:solidFill>
                <a:latin typeface="Arial"/>
              </a:rPr>
              <a:t>Podizrazi</a:t>
            </a: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Lucida Console"/>
              </a:rPr>
              <a:t>(</a:t>
            </a:r>
            <a:r>
              <a:rPr b="0" lang="hr-HR" sz="2400" spc="-1" strike="noStrike">
                <a:solidFill>
                  <a:srgbClr val="808080"/>
                </a:solidFill>
                <a:latin typeface="Lucida Console"/>
              </a:rPr>
              <a:t>nad</a:t>
            </a:r>
            <a:r>
              <a:rPr b="0" lang="en-US" sz="2400" spc="-1" strike="noStrike">
                <a:solidFill>
                  <a:srgbClr val="808080"/>
                </a:solidFill>
                <a:latin typeface="Lucida Console"/>
              </a:rPr>
              <a:t>|</a:t>
            </a:r>
            <a:r>
              <a:rPr b="0" lang="hr-HR" sz="2400" spc="-1" strike="noStrike">
                <a:solidFill>
                  <a:srgbClr val="808080"/>
                </a:solidFill>
                <a:latin typeface="Lucida Console"/>
              </a:rPr>
              <a:t>pod</a:t>
            </a:r>
            <a:r>
              <a:rPr b="0" lang="en-US" sz="2400" spc="-1" strike="noStrike">
                <a:solidFill>
                  <a:srgbClr val="808080"/>
                </a:solidFill>
                <a:latin typeface="Lucida Console"/>
              </a:rPr>
              <a:t>)</a:t>
            </a:r>
            <a:r>
              <a:rPr b="0" lang="hr-HR" sz="2400" spc="-1" strike="noStrike">
                <a:solidFill>
                  <a:srgbClr val="808080"/>
                </a:solidFill>
                <a:latin typeface="Lucida Console"/>
              </a:rPr>
              <a:t>nasl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dudara se sa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“nadnaslov” ili “podnaslov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Lucida Console"/>
              </a:rPr>
              <a:t>(burek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npr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rek,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burekburekbure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ili ništa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800" spc="-1" strike="noStrike">
                <a:solidFill>
                  <a:srgbClr val="808080"/>
                </a:solidFill>
                <a:latin typeface="Lucida Console"/>
              </a:rPr>
              <a:t>^(\w+)$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ak koji sadrži samo alfanumerike i točk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FDAE8-F786-48E5-8D91-710A5807EF9C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3300"/>
                </a:solidFill>
                <a:latin typeface="Arial"/>
              </a:rPr>
              <a:t>Podizrazi i reference</a:t>
            </a: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s/(LanguagePriority)\s+(.*)/\1 hr \2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\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\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... su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re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d: 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\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\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\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l: 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$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$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$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staju definirane i kasnije u progra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/(....)\1/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couscou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4242424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 9nu 9nu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/(''').*\1/i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'''niz uokviren sa tri navodnika'''</a:t>
            </a:r>
            <a:br>
              <a:rPr sz="2400"/>
            </a:br>
            <a:r>
              <a:rPr b="0" lang="hr-HR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1F16D-0BBF-4DD4-AE6F-7DE93DF8CCF0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3300"/>
                </a:solidFill>
                <a:latin typeface="Arial"/>
              </a:rPr>
              <a:t>Grupiranje</a:t>
            </a:r>
            <a:r>
              <a:rPr b="0" lang="en-GB" sz="4400" spc="-1" strike="noStrike">
                <a:solidFill>
                  <a:srgbClr val="ff3300"/>
                </a:solidFill>
                <a:latin typeface="Arial"/>
              </a:rPr>
              <a:t> i reference</a:t>
            </a: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utomatizacija izmjena u konfiguraciji Apache servera na 200 ustanova. Primj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ro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LanguagePriority en nl et fr de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vo: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LanguagePriority hr en nl et fr de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s/(LanguagePriority)\s+(.*)/\1 hr \2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(RI)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– podizra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\1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– niz koji se podudario sa prvim zagrada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\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– niz koji se podudario sa drugim podizrazom, ma kakav b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497F7-8698-4854-BEFD-526945750366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3300"/>
                </a:solidFill>
                <a:latin typeface="Arial"/>
              </a:rPr>
              <a:t>Rezime: metaznakovi</a:t>
            </a: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Osnovni 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ed, gre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^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četak ret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.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bilo koji zn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$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kraj ret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[]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lase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znakova </a:t>
            </a: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[a-z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()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grupiranje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\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citir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je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nared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g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metazna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rošireni 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grep -E, ostali ala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^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četak ret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.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bilo koji zn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$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kraj ret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|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alternative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A|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()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grupiranje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[]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lase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znakova </a:t>
            </a: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[a-z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\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citir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je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nared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g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metazna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\.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\\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175DF-D53D-49B4-85A6-040C50EE66D4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Prijevod</a:t>
            </a: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Doslovno: Pravilni izraz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FER: Pravilni izrazi su širi poj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Regularni izrazi su podskup pravilnih izra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Skraćeno: regex, PI, RI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03AE2-4970-4EAF-B5C6-E20B62F19B5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3300"/>
                </a:solidFill>
                <a:latin typeface="Arial"/>
              </a:rPr>
              <a:t>Rezime: metaznakovi</a:t>
            </a: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Osnovni 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ed, gre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0 ili više ponavljanja prethodnog znaka/izraz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rošireni 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grep -E, ostali ala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0 ili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*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0 ili viš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+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1 ili viš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{n}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 točno n ponavlja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{n,}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n ili viš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{n,m}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između n i m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    ponavlja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9C4FC-5E97-4534-BEFC-6F2B84DD4ADD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3300"/>
                </a:solidFill>
                <a:latin typeface="Arial"/>
              </a:rPr>
              <a:t>Rezime: provjera mjesta</a:t>
            </a: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Granični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\b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mjesto ruba riječi (početak ili kraj)</a:t>
            </a:r>
            <a:br>
              <a:rPr sz="2400"/>
            </a:b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\B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mjesto unutar riječi</a:t>
            </a:r>
            <a:br>
              <a:rPr sz="2400"/>
            </a:b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\&lt;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očetak riječi</a:t>
            </a:r>
            <a:br>
              <a:rPr sz="2400"/>
            </a:b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\&gt;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kraj riječ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Lookahead / lookbehind</a:t>
            </a:r>
            <a:br>
              <a:rPr sz="2400"/>
            </a:b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(?=izraz)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na ovom mjestu u tekstu se nalazi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izraz</a:t>
            </a:r>
            <a:br>
              <a:rPr sz="2400"/>
            </a:b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(?!izraz)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na ovoj poziciji ne smije biti </a:t>
            </a: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izraz</a:t>
            </a:r>
            <a:br>
              <a:rPr sz="2400"/>
            </a:b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(?&lt;=izraz)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ispred ove pozicije se nalazi </a:t>
            </a: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izraz</a:t>
            </a:r>
            <a:br>
              <a:rPr sz="2400"/>
            </a:b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(?&lt;!izraz)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na ovoj poziciji u tekstu slijedi </a:t>
            </a: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izra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Lookaround ne "jede" znakove u teks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1BE49-34E0-4EDC-865D-C5E3C52C409C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3300"/>
                </a:solidFill>
                <a:latin typeface="Arial"/>
              </a:rPr>
              <a:t>Rezime: klase</a:t>
            </a: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848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\d</a:t>
            </a: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znamen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\D</a:t>
            </a: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ve osim znamen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\w</a:t>
            </a: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lova+znamke+toc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\W</a:t>
            </a: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ve osim znakova iz \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\s</a:t>
            </a: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razmak, tab, novi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\S</a:t>
            </a: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ve osim prazn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Ostale kra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\t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ta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\n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line-fe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unix novi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\r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carriage-retu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\r\n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– DOS novi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\a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b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48320" y="1195560"/>
            <a:ext cx="449568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OSIX klase (GNU gre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[:alpha:]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slo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[:digit:]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znamen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[:alnum:]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slova i znamen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[:blank:]</a:t>
            </a: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razmak, ta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[:space:]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blank+novi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[:cntrl:]</a:t>
            </a: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kontrolni znakov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[:graph:]</a:t>
            </a: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vidljivi znak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[:print:]</a:t>
            </a: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... uključujući razm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[:punct:]</a:t>
            </a: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... koji nije slovo,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znamenka ili razm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[:lower:], [:upper: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[:xdigit: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egrep ’^[[:upper:]]+$’ pop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44B8D-7800-4EA3-A7E7-747BAB12B72B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3300"/>
                </a:solidFill>
                <a:latin typeface="Arial"/>
              </a:rPr>
              <a:t>Alati: sed</a:t>
            </a: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Sintaksa za b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ratanje re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om teksta u sed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s/traži/zamijeni/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- search/replace u trenutnom ret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y/ABCD/abcd/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- zamijenjuje znakove s lijeve strane onima s desne (slično kao naredba t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d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- efektivno, brisanje re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Regularni izrazi se označavaju sa </a:t>
            </a: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/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/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ili sa </a:t>
            </a:r>
            <a:r>
              <a:rPr b="0" lang="hr-HR" sz="2800" spc="-1" strike="noStrike">
                <a:solidFill>
                  <a:srgbClr val="000000"/>
                </a:solidFill>
                <a:latin typeface="Lucida Console"/>
              </a:rPr>
              <a:t>\X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r>
              <a:rPr b="0" lang="hr-HR" sz="2800" spc="-1" strike="noStrike">
                <a:solidFill>
                  <a:srgbClr val="000000"/>
                </a:solidFill>
                <a:latin typeface="Lucida Console"/>
              </a:rPr>
              <a:t>X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, pri čemu X može biti bilo koji zn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FA01A-8FB2-431C-9B81-93D8585F5A86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3300"/>
                </a:solidFill>
                <a:latin typeface="Arial"/>
              </a:rPr>
              <a:t>Alati: sed</a:t>
            </a: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pred sed naredbe može biti uvjet (“adresa”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). Formalno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[adresa[,adresa]] naredba [argumenti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s/^/#/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Doslovno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z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ijen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početak re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a sa #.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Zakomentira svaki redak sa znakom #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0s/^/#/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zakomentiraj samo prvi red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0!s/^/#/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zakomentiraj sve osim prvog re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/[0-9]/!s/^/#/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komentira re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e koji ne sadrže znamen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;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”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dvaja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naredbe u istom retku, np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s/^[ \t]*//; s/[ \t]*$</a:t>
            </a: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8AB86-D35E-4F9F-BFBF-74F6EC04509D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3300"/>
                </a:solidFill>
                <a:latin typeface="Arial"/>
              </a:rPr>
              <a:t>sed: </a:t>
            </a:r>
            <a:r>
              <a:rPr b="0" lang="hr-HR" sz="4400" spc="-1" strike="noStrike">
                <a:solidFill>
                  <a:srgbClr val="ff3300"/>
                </a:solidFill>
                <a:latin typeface="Lucida Console"/>
              </a:rPr>
              <a:t>s///</a:t>
            </a: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s/RI/zamjena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zamjenjuje prvu pojavu RI drugi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ed, vim, perl (awk: gsu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s/foo/bar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s/^/&gt; /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dodaje quote “</a:t>
            </a: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&gt;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“ na početak ret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Modifikator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s/foo/bar/g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zamjenjuje svaki “foo” sa “bar”, ne samo prvi u niz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s/foo/bar/i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Mijenja FOO, foo i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s/foo/bar/g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FE12B-7344-4CD7-83EA-1BA3DA905037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3300"/>
                </a:solidFill>
                <a:latin typeface="Arial"/>
              </a:rPr>
              <a:t>sed: </a:t>
            </a:r>
            <a:r>
              <a:rPr b="0" lang="hr-HR" sz="4400" spc="-1" strike="noStrike">
                <a:solidFill>
                  <a:srgbClr val="ff3300"/>
                </a:solidFill>
                <a:latin typeface="Lucida Console"/>
              </a:rPr>
              <a:t>s///</a:t>
            </a:r>
            <a:r>
              <a:rPr b="0" lang="hr-HR" sz="4400" spc="-1" strike="noStrike">
                <a:solidFill>
                  <a:srgbClr val="ff3300"/>
                </a:solidFill>
                <a:latin typeface="Arial"/>
                <a:ea typeface="Arial"/>
              </a:rPr>
              <a:t> primjer</a:t>
            </a: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Lucida Console"/>
              </a:rPr>
              <a:t>$ </a:t>
            </a:r>
            <a:r>
              <a:rPr b="1" lang="hr-HR" sz="1800" spc="-1" strike="noStrike">
                <a:solidFill>
                  <a:srgbClr val="000000"/>
                </a:solidFill>
                <a:latin typeface="Lucida Console"/>
              </a:rPr>
              <a:t>grep '^b' pop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Lucida Console"/>
              </a:rPr>
              <a:t>burek.dpkg-o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Lucida Console"/>
              </a:rPr>
              <a:t>$ grep '^b' popis | sed 's/\.dpkg-...//'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r-H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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 zamijeni “ničim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Lucida Console"/>
              </a:rPr>
              <a:t>bur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Lucida Console"/>
              </a:rPr>
              <a:t>$ grep '^b' popis | sed 's/\..*$//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Lucida Console"/>
              </a:rPr>
              <a:t>bur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Lucida Console"/>
              </a:rPr>
              <a:t>$ grep '^b' popis | sed 's/$/.bak/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Lucida Console"/>
              </a:rPr>
              <a:t>burek.dpkg-old.b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Lucida Console"/>
              </a:rPr>
              <a:t>$ grep '^b' popis | sed 's/\..*$/.bak/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Lucida Console"/>
              </a:rPr>
              <a:t>burek.b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18980-D1DD-451F-9DA9-16B33CE400DC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3300"/>
                </a:solidFill>
                <a:latin typeface="Arial"/>
              </a:rPr>
              <a:t>sed: </a:t>
            </a:r>
            <a:r>
              <a:rPr b="0" lang="hr-HR" sz="4400" spc="-1" strike="noStrike">
                <a:solidFill>
                  <a:srgbClr val="ff3300"/>
                </a:solidFill>
                <a:latin typeface="Lucida Console"/>
              </a:rPr>
              <a:t>s///</a:t>
            </a:r>
            <a:r>
              <a:rPr b="0" lang="hr-HR" sz="4400" spc="-1" strike="noStrike">
                <a:solidFill>
                  <a:srgbClr val="ff3300"/>
                </a:solidFill>
                <a:latin typeface="Arial"/>
                <a:ea typeface="Arial"/>
              </a:rPr>
              <a:t> primjer</a:t>
            </a: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Lucida Console"/>
              </a:rPr>
              <a:t>$ cd /etc/apache/conf.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Lucida Console"/>
              </a:rPr>
              <a:t>$ ls -1 | </a:t>
            </a:r>
            <a:r>
              <a:rPr b="1" lang="hr-HR" sz="1600" spc="-1" strike="noStrike">
                <a:solidFill>
                  <a:srgbClr val="000000"/>
                </a:solidFill>
                <a:latin typeface="Lucida Console"/>
              </a:rPr>
              <a:t>grep –v '\.conf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Lucida Console"/>
              </a:rPr>
              <a:t>DEADJO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Lucida Console"/>
              </a:rPr>
              <a:t>burek.dpkg-o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Lucida Console"/>
              </a:rPr>
              <a:t>$ ls -1 | grep –v '\.conf$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Lucida Console"/>
              </a:rPr>
              <a:t>$ grep '^b' popis | sed 's/\.dpkg-...//'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r-H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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  <a:ea typeface="Arial"/>
              </a:rPr>
              <a:t> zamijeni “ničim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Lucida Console"/>
              </a:rPr>
              <a:t>bur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Lucida Console"/>
              </a:rPr>
              <a:t>$ grep '^b' popis | sed 's/\..*$//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Lucida Console"/>
              </a:rPr>
              <a:t>bur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Lucida Console"/>
              </a:rPr>
              <a:t>$ grep '^b' popis | sed 's/$/./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Lucida Console"/>
              </a:rPr>
              <a:t>burek.dpkg-old.ba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Lucida Console"/>
              </a:rPr>
              <a:t>$ grep '^b' popis | sed 's/\..*$/.bak/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Lucida Console"/>
              </a:rPr>
              <a:t>burek.ba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78C11-11E1-428D-8A13-053154C230AC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3300"/>
                </a:solidFill>
                <a:latin typeface="Arial"/>
              </a:rPr>
              <a:t>Pitanja?</a:t>
            </a: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DE5E3-8BFD-4577-B3E0-EBC955D43CB3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3300"/>
                </a:solidFill>
                <a:latin typeface="Arial"/>
              </a:rPr>
              <a:t>Podizrazi i reference</a:t>
            </a: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s/(LanguagePriority)\s+(.*)/\1 hr \2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\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\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... su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re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d: 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\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\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\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l: 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$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$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$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staju definirane i kasnije u progra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/(....)\1/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couscou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4242424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 9nu 9nu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/(''').*\1/i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'''niz uokviren sa tri navodnika'''</a:t>
            </a:r>
            <a:br>
              <a:rPr sz="2400"/>
            </a:br>
            <a:r>
              <a:rPr b="0" lang="hr-HR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242B4-1F4A-4917-91E2-C15D51E6FF55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3300"/>
                </a:solidFill>
                <a:latin typeface="Arial"/>
              </a:rPr>
              <a:t>Seminar</a:t>
            </a: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Arial"/>
              </a:rPr>
              <a:t>Čime se nećemo baviti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oviješću i teorij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dovoljni su linkov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Arial"/>
              </a:rPr>
              <a:t>Čime ćemo se baviti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Što su RI i kako vam mogu olakšati živ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Cause being admin is hard enou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04273-C111-488C-AF1A-06A19F47CDB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3300"/>
                </a:solidFill>
                <a:latin typeface="Arial"/>
              </a:rPr>
              <a:t>Podizrazi i reference</a:t>
            </a: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rimjer: automatizacija izmjena u konfiguraciji Apache servera na 200 ustanov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staro: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LanguagePriority en nl et fr de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novo:</a:t>
            </a: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LanguagePriority</a:t>
            </a:r>
            <a:r>
              <a:rPr b="0" i="1" lang="hr-HR" sz="2400" spc="-1" strike="noStrike">
                <a:solidFill>
                  <a:srgbClr val="333399"/>
                </a:solidFill>
                <a:latin typeface="Lucida Console"/>
              </a:rPr>
              <a:t> hr</a:t>
            </a:r>
            <a:r>
              <a:rPr b="0" i="1" lang="hr-HR" sz="2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en nl et fr de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s/(LanguagePriority)\s+(.*)/\1 hr \2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Lucida Console"/>
              </a:rPr>
              <a:t>(RI)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– podizra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Lucida Console"/>
              </a:rPr>
              <a:t>\1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– niz koji se podudario sa prvim zagrada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Lucida Console"/>
              </a:rPr>
              <a:t>\2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– niz koji se podudario sa drugim podizrazom, ma kakav b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A4B14-5837-4193-921F-CCB2F5B403E1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3300"/>
                </a:solidFill>
                <a:latin typeface="Arial"/>
              </a:rPr>
              <a:t>Podizrazi i reference</a:t>
            </a: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_</a:t>
            </a: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(...)?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– opcionalni podizra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?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– 0 ili 1 poja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E11CB-F61A-431C-9D46-0933E7A430FB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3300"/>
                </a:solidFill>
                <a:latin typeface="Arial"/>
              </a:rPr>
              <a:t>zadatak: sed</a:t>
            </a: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U </a:t>
            </a: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/etc/apache/httpd.conf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datoteci zamijenite sve AddType retke za .php i slične php ekstenzije sa AddHandler redci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AddType application/x-httpd-php .ph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AddType application/x-httpd-php-source .ph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Dodatno, koristeći reference ostavite zakomentirani originalni redak iznad izmijenjeno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7EFBA-A488-4E3C-B5AA-85E2BCC22571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3300"/>
                </a:solidFill>
                <a:latin typeface="Arial"/>
              </a:rPr>
              <a:t>zadatak: sed</a:t>
            </a: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Diskus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Na koje ste probleme naišl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Kako drugačije riješit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43F38-CDAF-4D8F-A08A-98C4E180816C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3300"/>
                </a:solidFill>
                <a:latin typeface="Arial"/>
              </a:rPr>
              <a:t>Alati: awk</a:t>
            </a: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Osnovna sintaks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[uzorak] { naredba; naredba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[uzorak2] { blok naredbi2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(ako je ispunjen uvjet iz uzorka,  izvrši blo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osebni uvjet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BEGIN {}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– na početku izvršavan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END {}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– na kraju ulazne datoteke, ili uz poziv </a:t>
            </a: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BEGIN    {m=120; j=0;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/mp3$/   {m++; if (m &gt;= 500) {exit;}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/(jpg|jpeg)$/ {j++;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END</a:t>
            </a: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     {print "mp3ca: " m " jpegova: " j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7B6A6-F25E-4D8D-B157-F227871F587E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3300"/>
                </a:solidFill>
                <a:latin typeface="Arial"/>
              </a:rPr>
              <a:t>Alati: awk</a:t>
            </a: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Regularni izraz se ograđuje sa </a:t>
            </a: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/</a:t>
            </a:r>
            <a:r>
              <a:rPr b="0" lang="hr-HR" sz="2400" spc="-1" strike="noStrike">
                <a:solidFill>
                  <a:srgbClr val="808080"/>
                </a:solidFill>
                <a:latin typeface="Lucida Console"/>
              </a:rPr>
              <a:t>...</a:t>
            </a: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Ugrađeno dijeljenje retka po stupci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Lucida Console"/>
                <a:ea typeface="Arial"/>
              </a:rPr>
              <a:t>$0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 – varijabla koja sadrži cijeli red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Lucida Console"/>
                <a:ea typeface="Arial"/>
              </a:rPr>
              <a:t>$1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hr-HR" sz="2000" spc="-1" strike="noStrike">
                <a:solidFill>
                  <a:srgbClr val="000000"/>
                </a:solidFill>
                <a:latin typeface="Lucida Console"/>
                <a:ea typeface="Arial"/>
              </a:rPr>
              <a:t>$2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hr-HR" sz="2000" spc="-1" strike="noStrike">
                <a:solidFill>
                  <a:srgbClr val="000000"/>
                </a:solidFill>
                <a:latin typeface="Lucida Console"/>
                <a:ea typeface="Arial"/>
              </a:rPr>
              <a:t>$3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 – prvi, drugi, itd. stupa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$NF – posljednji stupa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Često korištene ugrađene varij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NF – broj stupaca u trenutnom ret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NR – broj redaka do s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Stupci su pretpostavljeno odvojeni praznina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ls –l | awk '{print $9}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Ispisuje devetu riječ u svakom retku – ime datote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B9F34-A6A8-44DF-AD4F-C5ECFA27B129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3300"/>
                </a:solidFill>
                <a:latin typeface="Arial"/>
              </a:rPr>
              <a:t>Alati: awk</a:t>
            </a: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Uvjeti slični C-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$1 == "0.0.0.0" {print $2}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$1 ~ /RI/ {print $0; exi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$8 != "eth0" &amp;&amp; $1 ~ /^161\.53\.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{print "Cudna ruta " $0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~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- podudarnost sa regexpom, negacija </a:t>
            </a: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!~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/RI/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bez ostalih oznaka provjerava cijeli red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/mp3$/ { m++; 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Dodatna konfiguracija putem posebnih varijabli, np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Lucida Console"/>
                <a:ea typeface="Arial"/>
              </a:rPr>
              <a:t>FS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 – field separator, čime su odvojeni stup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Lucida Console"/>
                <a:ea typeface="Arial"/>
              </a:rPr>
              <a:t>IGNORE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2ED02-48B8-448A-84AF-6370BE26A356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3300"/>
                </a:solidFill>
                <a:latin typeface="Arial"/>
              </a:rPr>
              <a:t>primjeri: awk</a:t>
            </a: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$ cat popis | awk '/b.*/' </a:t>
            </a:r>
            <a:r>
              <a:rPr b="0" lang="hr-H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</a:t>
            </a: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zamjena za gre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Lucida Console"/>
                <a:ea typeface="Arial"/>
              </a:rPr>
              <a:t>burek.dpkg-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$ awk '/b.*/' popis       </a:t>
            </a:r>
            <a:r>
              <a:rPr b="0" lang="hr-H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</a:t>
            </a: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zamjena za gre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Lucida Console"/>
                <a:ea typeface="Arial"/>
              </a:rPr>
              <a:t>burek.dpkg-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$ netstat –rn | awk '$1 == "0.0.0.0" {print $2}'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ispiše default gatew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$ iptables –L | awk '/INPUT/, /^$/' </a:t>
            </a:r>
            <a:r>
              <a:rPr b="0" lang="hr-H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</a:t>
            </a: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kao u sed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ispiše samo retke vezane za INPUT lana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2B32A-B33E-42AC-8514-790B037AF260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3300"/>
                </a:solidFill>
                <a:latin typeface="Arial"/>
              </a:rPr>
              <a:t>Zadatak: što radi ovaj izraz?</a:t>
            </a: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rm 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`ls –al | grep string | </a:t>
            </a: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\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awk ‘</a:t>
            </a: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$9 !~ /^string/) {print $9}’`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Briše sve datoteke koje sadrže “string”, osim onih kod kojih je string na početk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Što će se dogoditi ako zamijenite </a:t>
            </a: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!~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sa </a:t>
            </a: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~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Što će se dogoditi ako neka datoteka ima razmak u imen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©UG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38430-2294-4F88-832D-255C99970DF7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3300"/>
                </a:solidFill>
                <a:latin typeface="Arial"/>
              </a:rPr>
              <a:t>Vježba 1</a:t>
            </a: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Napišite RI koji će pronaći datume oblika: </a:t>
            </a:r>
            <a:r>
              <a:rPr b="0" lang="hr-HR" sz="3200" spc="-1" strike="noStrike">
                <a:solidFill>
                  <a:srgbClr val="000000"/>
                </a:solidFill>
                <a:latin typeface="Lucida Console"/>
              </a:rPr>
              <a:t>dd.mm.gggg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te </a:t>
            </a:r>
            <a:r>
              <a:rPr b="0" lang="hr-HR" sz="3200" spc="-1" strike="noStrike">
                <a:solidFill>
                  <a:srgbClr val="000000"/>
                </a:solidFill>
                <a:latin typeface="Lucida Console"/>
              </a:rPr>
              <a:t>dd.mm.g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Oprez! Koristite graničnike \&lt;, \&gt;, \b da izraz ne pronađe datum tamo gdje ga zapravo n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8D5B0-AD11-4B89-A4CA-E06ECF2E0DF3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3300"/>
                </a:solidFill>
                <a:latin typeface="Arial"/>
              </a:rPr>
              <a:t>Izvori</a:t>
            </a: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Na Linuxu, priručn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Lucida Console"/>
              </a:rPr>
              <a:t>$ man 7 reg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Lucida Console"/>
              </a:rPr>
              <a:t>$ perldoc perl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Lucida Console"/>
              </a:rPr>
              <a:t>$ perldoc perl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542C8-1659-435A-BE83-57D1118CD0C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3300"/>
                </a:solidFill>
                <a:latin typeface="Arial"/>
              </a:rPr>
              <a:t>Vježba</a:t>
            </a: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U tekstualnoj datoteci pronađite sve riječi koje se se ponavljaj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uputa: grep ne zna za reference, egrep z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9E1C4-556A-46D0-BB3A-5146D2F1ED4E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3300"/>
                </a:solidFill>
                <a:latin typeface="Arial"/>
              </a:rPr>
              <a:t>Vježba</a:t>
            </a: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Napišite RI koji će pronaći tekst obli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http://www.carnet.h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i zamijeniti ga 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&lt;A HREF="http://www.</a:t>
            </a: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carnet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.</a:t>
            </a: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hr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"&gt;</a:t>
            </a: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carnet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&lt;/A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Pokušajte prvo pronaći dovoljno dobar RI za URL, pa zatim u njemu izdvojite srednji dio imena stroj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24A41-8C35-40A6-85AB-4144152C91A2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3300"/>
                </a:solidFill>
                <a:latin typeface="Arial"/>
              </a:rPr>
              <a:t>Primjer: JavaScript</a:t>
            </a: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Zadatak: spriječi unos LDAP korisničkog imena oblik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korisnik.domena, forsiraj oblik korisnik@domena.h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if (string.search(/^[A-Za-z0-9\-\_]+\.[A-Za-z0-9\-]+$/i) != -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{  alert("'korisnik.domena' ne vrijedi. Koristite '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Lucida Console"/>
                <a:hlinkClick r:id="rId1"/>
              </a:rPr>
              <a:t>korisnik@domena.hr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'");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document.imaplogin.imapuser.focus();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return false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 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© Žel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0CB43-222D-4FD9-9855-F18BD7C5478D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3300"/>
                </a:solidFill>
                <a:latin typeface="Arial"/>
              </a:rPr>
              <a:t>Primjer: logcheck</a:t>
            </a: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Zadatak: spriječi </a:t>
            </a:r>
            <a:r>
              <a:rPr b="0" i="1" lang="hr-HR" sz="2000" spc="-1" strike="noStrike">
                <a:solidFill>
                  <a:srgbClr val="000000"/>
                </a:solidFill>
                <a:latin typeface="Arial"/>
              </a:rPr>
              <a:t>logcheck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da bilježi ovakve poruk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eb 14 10:00:01 po sm-mta[22624]: k1E9012X022624: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rom=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Courier New"/>
                <a:ea typeface="Courier New"/>
                <a:hlinkClick r:id="rId1"/>
              </a:rPr>
              <a:t>&lt;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Courier New"/>
                <a:ea typeface="Courier New"/>
                <a:hlinkClick r:id="rId2"/>
              </a:rPr>
              <a:t>virusalert@po.os.carnet.hr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Courier New"/>
                <a:ea typeface="Courier New"/>
                <a:hlinkClick r:id="rId3"/>
              </a:rPr>
              <a:t>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, size=1779, class=0, nrcpts=1,msgid=&lt;VAk1E8i0jg011483@po&gt;, proto=ESMTP, daemon=MSA, </a:t>
            </a:r>
            <a:br>
              <a:rPr sz="2000"/>
            </a:br>
            <a:r>
              <a:rPr b="0" lang="en-US" sz="2000" spc="-1" strike="noStrike" u="sng">
                <a:solidFill>
                  <a:srgbClr val="009999"/>
                </a:solidFill>
                <a:uFillTx/>
                <a:latin typeface="Courier New"/>
                <a:ea typeface="Courier New"/>
                <a:hlinkClick r:id="rId4"/>
              </a:rPr>
              <a:t>relay=smmsp@localhost.os.carnet.h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[127.0.0.1]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etc/logcheck/violations.ignore.d/logcheck-sendmail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^\w{3} [ :0-9]{11} [._[:alnum:]-]+ (sendmail|sm-(mta|msp|que))\[[0-9]+\]: [[:alnum:]]+: .*virusalert@po.os.carnet.hr.*$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©Žel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3189F-2DEE-4EA7-96F5-622378044540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3300"/>
                </a:solidFill>
                <a:latin typeface="Arial"/>
              </a:rPr>
              <a:t>Rezime: osnovni metaznakovi</a:t>
            </a: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Osnovni 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ed, gre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^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četak ret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.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bilo koji zn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$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kraj ret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[]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lase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znakova </a:t>
            </a: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[a-z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()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grupiranje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\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citir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je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nared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g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metazna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rošireni 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egrep, ostali ala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^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četak ret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.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bilo koji zn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$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kraj ret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|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alternative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A|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()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grupiranje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[]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lase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znakova </a:t>
            </a: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[a-z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\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citir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je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nared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g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metazna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\.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\\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606C5-5F4E-4F5E-AB36-E6C3DFE8D61D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3300"/>
                </a:solidFill>
                <a:latin typeface="Arial"/>
              </a:rPr>
              <a:t>Rezime: ponavljanje</a:t>
            </a: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Osnovni 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ed, gre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0 ili više ponavljanja prethodnog znaka/izraz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rošireni 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grep -E, ostali ala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a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0 ili 1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a*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0 ili viš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a+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1 ili viš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a{n}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  n ponavlja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a{n,}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n ili viš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a{n,m}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između n i m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    ponavlja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D0DE3-357D-406E-9556-1D32486F5D5D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3300"/>
                </a:solidFill>
                <a:latin typeface="Arial"/>
              </a:rPr>
              <a:t>Rezime: provjera mjesta</a:t>
            </a: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Granični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\b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mjesto ruba riječi (početak ili kraj)</a:t>
            </a:r>
            <a:br>
              <a:rPr sz="2400"/>
            </a:b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\B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mjesto unutar riječi</a:t>
            </a:r>
            <a:br>
              <a:rPr sz="2400"/>
            </a:b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\&lt;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očetak riječi</a:t>
            </a:r>
            <a:br>
              <a:rPr sz="2400"/>
            </a:b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\&gt;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kraj riječ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Lookahead / lookbehind</a:t>
            </a:r>
            <a:br>
              <a:rPr sz="2400"/>
            </a:b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(?=izraz)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na ovom mjestu u tekstu se nalazi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izraz</a:t>
            </a:r>
            <a:br>
              <a:rPr sz="2400"/>
            </a:b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(?!izraz)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na ovoj poziciji ne smije biti </a:t>
            </a: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izraz</a:t>
            </a:r>
            <a:br>
              <a:rPr sz="2400"/>
            </a:b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(?&lt;=izraz)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ispred ove pozicije se nalazi </a:t>
            </a: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izraz</a:t>
            </a:r>
            <a:br>
              <a:rPr sz="2400"/>
            </a:b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(?&lt;!izraz)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na ovoj poziciji u tekstu slijedi </a:t>
            </a:r>
            <a:r>
              <a:rPr b="0" lang="hr-HR" sz="2400" spc="-1" strike="noStrike">
                <a:solidFill>
                  <a:srgbClr val="000000"/>
                </a:solidFill>
                <a:latin typeface="Lucida Console"/>
              </a:rPr>
              <a:t>izra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Lookaround ne "jede" znakove u teks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0E4AE-D7D2-49FB-9E72-A27089029330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3300"/>
                </a:solidFill>
                <a:latin typeface="Arial"/>
              </a:rPr>
              <a:t>Rezime: klase</a:t>
            </a: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848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\d</a:t>
            </a: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znamen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\D</a:t>
            </a: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ve osim znamen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\w</a:t>
            </a: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lova+znamke+toc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\W</a:t>
            </a: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ve osim znakova iz \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\s</a:t>
            </a: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razmak, tab, novi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\S</a:t>
            </a: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ve osim prazn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Ostale kra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\t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ta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\n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line-fe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unix novi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\r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carriage-retu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\r\n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– DOS novi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\a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b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48320" y="1195560"/>
            <a:ext cx="449568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OSIX klase (GNU grep, Per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[:alpha:]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slo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[:digit:]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znamen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[:alnum:]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slova i znamen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[:blank:]</a:t>
            </a: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razmak, ta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[:space:]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blank+novi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[:cntrl:]</a:t>
            </a: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kontrolni znakov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[:graph:]</a:t>
            </a: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vidljivi znak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[:print:]</a:t>
            </a: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... uključujući razm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[:punct:]</a:t>
            </a: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... koji nije slovo,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znamenka ili razm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[:lower:], [:upper: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[:xdigit: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Lucida Console"/>
              </a:rPr>
              <a:t>egrep ’^[[:upper:]]+$’ pop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ADA55-C150-4ECF-B9AF-3E13F51FCDE3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Knjige</a:t>
            </a: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Jednostavni uvo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hr-HR" sz="2800" spc="-1" strike="noStrike">
                <a:solidFill>
                  <a:srgbClr val="000000"/>
                </a:solidFill>
                <a:latin typeface="Arial"/>
              </a:rPr>
              <a:t>Teach Yourself Regular Expressions in 10 Minute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s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B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0-672-32566-7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Referenca / z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n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apred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ffrey Friedl</a:t>
            </a: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stering Regular Expression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'Reilly, ISBN 059600289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8D80A-9B91-4152-B2A7-C7E21B27D57F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Linkovi</a:t>
            </a: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</a:t>
            </a:r>
            <a:r>
              <a:rPr b="0" lang="hr-HR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regular</a:t>
            </a:r>
            <a:r>
              <a:rPr b="0" lang="hr-HR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-</a:t>
            </a:r>
            <a:r>
              <a:rPr b="0" lang="hr-HR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expressions</a:t>
            </a:r>
            <a:r>
              <a:rPr b="0" lang="hr-HR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.</a:t>
            </a:r>
            <a:r>
              <a:rPr b="0" lang="hr-HR" sz="2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info</a:t>
            </a:r>
            <a:r>
              <a:rPr b="0" lang="hr-HR" sz="2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/</a:t>
            </a:r>
            <a:r>
              <a:rPr b="0" lang="hr-HR" sz="24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quickstart</a:t>
            </a:r>
            <a:r>
              <a:rPr b="0" lang="hr-HR" sz="24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http://en.</a:t>
            </a:r>
            <a:r>
              <a:rPr b="0" lang="hr-HR" sz="24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wikipedia</a:t>
            </a:r>
            <a:r>
              <a:rPr b="0" lang="hr-HR" sz="24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.</a:t>
            </a:r>
            <a:r>
              <a:rPr b="0" lang="hr-HR" sz="24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org</a:t>
            </a:r>
            <a:r>
              <a:rPr b="0" lang="hr-HR" sz="24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/</a:t>
            </a:r>
            <a:r>
              <a:rPr b="0" lang="hr-HR" sz="24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wiki</a:t>
            </a:r>
            <a:r>
              <a:rPr b="0" lang="hr-HR" sz="24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/</a:t>
            </a:r>
            <a:r>
              <a:rPr b="0" lang="hr-HR" sz="24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Regular</a:t>
            </a:r>
            <a:r>
              <a:rPr b="0" lang="hr-HR" sz="24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_</a:t>
            </a:r>
            <a:r>
              <a:rPr b="0" lang="hr-HR" sz="24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ex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http://</a:t>
            </a:r>
            <a:r>
              <a:rPr b="0" lang="hr-HR" sz="24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sitescooper</a:t>
            </a:r>
            <a:r>
              <a:rPr b="0" lang="hr-HR" sz="24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.</a:t>
            </a:r>
            <a:r>
              <a:rPr b="0" lang="hr-HR" sz="2400" spc="-1" strike="noStrike" u="sng">
                <a:solidFill>
                  <a:srgbClr val="009999"/>
                </a:solidFill>
                <a:uFillTx/>
                <a:latin typeface="Arial"/>
                <a:hlinkClick r:id="rId23"/>
              </a:rPr>
              <a:t>org</a:t>
            </a:r>
            <a:r>
              <a:rPr b="0" lang="hr-HR" sz="2400" spc="-1" strike="noStrike" u="sng">
                <a:solidFill>
                  <a:srgbClr val="009999"/>
                </a:solidFill>
                <a:uFillTx/>
                <a:latin typeface="Arial"/>
                <a:hlinkClick r:id="rId24"/>
              </a:rPr>
              <a:t>/</a:t>
            </a:r>
            <a:r>
              <a:rPr b="0" lang="hr-HR" sz="2400" spc="-1" strike="noStrike" u="sng">
                <a:solidFill>
                  <a:srgbClr val="009999"/>
                </a:solidFill>
                <a:uFillTx/>
                <a:latin typeface="Arial"/>
                <a:hlinkClick r:id="rId25"/>
              </a:rPr>
              <a:t>tao</a:t>
            </a:r>
            <a:r>
              <a:rPr b="0" lang="hr-HR" sz="2400" spc="-1" strike="noStrike" u="sng">
                <a:solidFill>
                  <a:srgbClr val="009999"/>
                </a:solidFill>
                <a:uFillTx/>
                <a:latin typeface="Arial"/>
                <a:hlinkClick r:id="rId26"/>
              </a:rPr>
              <a:t>_</a:t>
            </a:r>
            <a:r>
              <a:rPr b="0" lang="hr-HR" sz="2400" spc="-1" strike="noStrike" u="sng">
                <a:solidFill>
                  <a:srgbClr val="009999"/>
                </a:solidFill>
                <a:uFillTx/>
                <a:latin typeface="Arial"/>
                <a:hlinkClick r:id="rId27"/>
              </a:rPr>
              <a:t>regexps</a:t>
            </a:r>
            <a:r>
              <a:rPr b="0" lang="hr-HR" sz="2400" spc="-1" strike="noStrike" u="sng">
                <a:solidFill>
                  <a:srgbClr val="009999"/>
                </a:solidFill>
                <a:uFillTx/>
                <a:latin typeface="Arial"/>
                <a:hlinkClick r:id="rId28"/>
              </a:rPr>
              <a:t>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 u="sng">
                <a:solidFill>
                  <a:srgbClr val="009999"/>
                </a:solidFill>
                <a:uFillTx/>
                <a:latin typeface="Arial"/>
                <a:hlinkClick r:id="rId29"/>
              </a:rPr>
              <a:t>http://www.</a:t>
            </a:r>
            <a:r>
              <a:rPr b="0" lang="hr-HR" sz="2400" spc="-1" strike="noStrike" u="sng">
                <a:solidFill>
                  <a:srgbClr val="009999"/>
                </a:solidFill>
                <a:uFillTx/>
                <a:latin typeface="Arial"/>
                <a:hlinkClick r:id="rId30"/>
              </a:rPr>
              <a:t>amk</a:t>
            </a:r>
            <a:r>
              <a:rPr b="0" lang="hr-HR" sz="2400" spc="-1" strike="noStrike" u="sng">
                <a:solidFill>
                  <a:srgbClr val="009999"/>
                </a:solidFill>
                <a:uFillTx/>
                <a:latin typeface="Arial"/>
                <a:hlinkClick r:id="rId31"/>
              </a:rPr>
              <a:t>.ca/</a:t>
            </a:r>
            <a:r>
              <a:rPr b="0" lang="hr-HR" sz="2400" spc="-1" strike="noStrike" u="sng">
                <a:solidFill>
                  <a:srgbClr val="009999"/>
                </a:solidFill>
                <a:uFillTx/>
                <a:latin typeface="Arial"/>
                <a:hlinkClick r:id="rId32"/>
              </a:rPr>
              <a:t>python</a:t>
            </a:r>
            <a:r>
              <a:rPr b="0" lang="hr-HR" sz="2400" spc="-1" strike="noStrike" u="sng">
                <a:solidFill>
                  <a:srgbClr val="009999"/>
                </a:solidFill>
                <a:uFillTx/>
                <a:latin typeface="Arial"/>
                <a:hlinkClick r:id="rId33"/>
              </a:rPr>
              <a:t>/</a:t>
            </a:r>
            <a:r>
              <a:rPr b="0" lang="hr-HR" sz="2400" spc="-1" strike="noStrike" u="sng">
                <a:solidFill>
                  <a:srgbClr val="009999"/>
                </a:solidFill>
                <a:uFillTx/>
                <a:latin typeface="Arial"/>
                <a:hlinkClick r:id="rId34"/>
              </a:rPr>
              <a:t>howto</a:t>
            </a:r>
            <a:r>
              <a:rPr b="0" lang="hr-HR" sz="2400" spc="-1" strike="noStrike" u="sng">
                <a:solidFill>
                  <a:srgbClr val="009999"/>
                </a:solidFill>
                <a:uFillTx/>
                <a:latin typeface="Arial"/>
                <a:hlinkClick r:id="rId35"/>
              </a:rPr>
              <a:t>/</a:t>
            </a:r>
            <a:r>
              <a:rPr b="0" lang="hr-HR" sz="2400" spc="-1" strike="noStrike" u="sng">
                <a:solidFill>
                  <a:srgbClr val="009999"/>
                </a:solidFill>
                <a:uFillTx/>
                <a:latin typeface="Arial"/>
                <a:hlinkClick r:id="rId36"/>
              </a:rPr>
              <a:t>regex</a:t>
            </a:r>
            <a:r>
              <a:rPr b="0" lang="hr-HR" sz="2400" spc="-1" strike="noStrike" u="sng">
                <a:solidFill>
                  <a:srgbClr val="009999"/>
                </a:solidFill>
                <a:uFillTx/>
                <a:latin typeface="Arial"/>
                <a:hlinkClick r:id="rId37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 u="sng">
                <a:solidFill>
                  <a:srgbClr val="009999"/>
                </a:solidFill>
                <a:uFillTx/>
                <a:latin typeface="Arial"/>
                <a:hlinkClick r:id="rId38"/>
              </a:rPr>
              <a:t>http://</a:t>
            </a:r>
            <a:r>
              <a:rPr b="0" lang="hr-HR" sz="2400" spc="-1" strike="noStrike" u="sng">
                <a:solidFill>
                  <a:srgbClr val="009999"/>
                </a:solidFill>
                <a:uFillTx/>
                <a:latin typeface="Arial"/>
                <a:hlinkClick r:id="rId39"/>
              </a:rPr>
              <a:t>ruddo</a:t>
            </a:r>
            <a:r>
              <a:rPr b="0" lang="hr-HR" sz="2400" spc="-1" strike="noStrike" u="sng">
                <a:solidFill>
                  <a:srgbClr val="009999"/>
                </a:solidFill>
                <a:uFillTx/>
                <a:latin typeface="Arial"/>
                <a:hlinkClick r:id="rId40"/>
              </a:rPr>
              <a:t>.</a:t>
            </a:r>
            <a:r>
              <a:rPr b="0" lang="hr-HR" sz="2400" spc="-1" strike="noStrike" u="sng">
                <a:solidFill>
                  <a:srgbClr val="009999"/>
                </a:solidFill>
                <a:uFillTx/>
                <a:latin typeface="Arial"/>
                <a:hlinkClick r:id="rId41"/>
              </a:rPr>
              <a:t>com</a:t>
            </a:r>
            <a:r>
              <a:rPr b="0" lang="hr-HR" sz="2400" spc="-1" strike="noStrike" u="sng">
                <a:solidFill>
                  <a:srgbClr val="009999"/>
                </a:solidFill>
                <a:uFillTx/>
                <a:latin typeface="Arial"/>
                <a:hlinkClick r:id="rId42"/>
              </a:rPr>
              <a:t>/</a:t>
            </a:r>
            <a:r>
              <a:rPr b="0" lang="hr-HR" sz="2400" spc="-1" strike="noStrike" u="sng">
                <a:solidFill>
                  <a:srgbClr val="009999"/>
                </a:solidFill>
                <a:uFillTx/>
                <a:latin typeface="Arial"/>
                <a:hlinkClick r:id="rId43"/>
              </a:rPr>
              <a:t>projects</a:t>
            </a:r>
            <a:r>
              <a:rPr b="0" lang="hr-HR" sz="2400" spc="-1" strike="noStrike" u="sng">
                <a:solidFill>
                  <a:srgbClr val="009999"/>
                </a:solidFill>
                <a:uFillTx/>
                <a:latin typeface="Arial"/>
                <a:hlinkClick r:id="rId44"/>
              </a:rPr>
              <a:t>/</a:t>
            </a:r>
            <a:r>
              <a:rPr b="0" lang="hr-HR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wp</a:t>
            </a:r>
            <a:r>
              <a:rPr b="0" lang="hr-HR" sz="2400" spc="-1" strike="noStrike" u="sng">
                <a:solidFill>
                  <a:srgbClr val="009999"/>
                </a:solidFill>
                <a:uFillTx/>
                <a:latin typeface="Arial"/>
                <a:hlinkClick r:id="rId46"/>
              </a:rPr>
              <a:t>-</a:t>
            </a:r>
            <a:r>
              <a:rPr b="0" lang="hr-HR" sz="2400" spc="-1" strike="noStrike" u="sng">
                <a:solidFill>
                  <a:srgbClr val="009999"/>
                </a:solidFill>
                <a:uFillTx/>
                <a:latin typeface="Arial"/>
                <a:hlinkClick r:id="rId47"/>
              </a:rPr>
              <a:t>search</a:t>
            </a:r>
            <a:r>
              <a:rPr b="0" lang="hr-HR" sz="2400" spc="-1" strike="noStrike" u="sng">
                <a:solidFill>
                  <a:srgbClr val="009999"/>
                </a:solidFill>
                <a:uFillTx/>
                <a:latin typeface="Arial"/>
                <a:hlinkClick r:id="rId48"/>
              </a:rPr>
              <a:t>-</a:t>
            </a:r>
            <a:r>
              <a:rPr b="0" lang="hr-HR" sz="2400" spc="-1" strike="noStrike" u="sng">
                <a:solidFill>
                  <a:srgbClr val="009999"/>
                </a:solidFill>
                <a:uFillTx/>
                <a:latin typeface="Arial"/>
                <a:hlinkClick r:id="rId49"/>
              </a:rPr>
              <a:t>replace</a:t>
            </a:r>
            <a:r>
              <a:rPr b="0" lang="hr-HR" sz="2400" spc="-1" strike="noStrike" u="sng">
                <a:solidFill>
                  <a:srgbClr val="009999"/>
                </a:solidFill>
                <a:uFillTx/>
                <a:latin typeface="Arial"/>
                <a:hlinkClick r:id="rId50"/>
              </a:rPr>
              <a:t>/</a:t>
            </a:r>
            <a:r>
              <a:rPr b="0" lang="hr-HR" sz="2400" spc="-1" strike="noStrike" u="sng">
                <a:solidFill>
                  <a:srgbClr val="009999"/>
                </a:solidFill>
                <a:uFillTx/>
                <a:latin typeface="Arial"/>
                <a:hlinkClick r:id="rId51"/>
              </a:rPr>
              <a:t>wp</a:t>
            </a:r>
            <a:r>
              <a:rPr b="0" lang="hr-HR" sz="2400" spc="-1" strike="noStrike" u="sng">
                <a:solidFill>
                  <a:srgbClr val="009999"/>
                </a:solidFill>
                <a:uFillTx/>
                <a:latin typeface="Arial"/>
                <a:hlinkClick r:id="rId52"/>
              </a:rPr>
              <a:t>-</a:t>
            </a:r>
            <a:r>
              <a:rPr b="0" lang="hr-HR" sz="2400" spc="-1" strike="noStrike" u="sng">
                <a:solidFill>
                  <a:srgbClr val="009999"/>
                </a:solidFill>
                <a:uFillTx/>
                <a:latin typeface="Arial"/>
                <a:hlinkClick r:id="rId53"/>
              </a:rPr>
              <a:t>search</a:t>
            </a:r>
            <a:r>
              <a:rPr b="0" lang="hr-HR" sz="2400" spc="-1" strike="noStrike" u="sng">
                <a:solidFill>
                  <a:srgbClr val="009999"/>
                </a:solidFill>
                <a:uFillTx/>
                <a:latin typeface="Arial"/>
                <a:hlinkClick r:id="rId54"/>
              </a:rPr>
              <a:t>-</a:t>
            </a:r>
            <a:r>
              <a:rPr b="0" lang="hr-HR" sz="2400" spc="-1" strike="noStrike" u="sng">
                <a:solidFill>
                  <a:srgbClr val="009999"/>
                </a:solidFill>
                <a:uFillTx/>
                <a:latin typeface="Arial"/>
                <a:hlinkClick r:id="rId55"/>
              </a:rPr>
              <a:t>replace</a:t>
            </a:r>
            <a:r>
              <a:rPr b="0" lang="hr-HR" sz="2400" spc="-1" strike="noStrike" u="sng">
                <a:solidFill>
                  <a:srgbClr val="009999"/>
                </a:solidFill>
                <a:uFillTx/>
                <a:latin typeface="Arial"/>
                <a:hlinkClick r:id="rId56"/>
              </a:rPr>
              <a:t>-</a:t>
            </a:r>
            <a:r>
              <a:rPr b="0" lang="hr-HR" sz="2400" spc="-1" strike="noStrike" u="sng">
                <a:solidFill>
                  <a:srgbClr val="009999"/>
                </a:solidFill>
                <a:uFillTx/>
                <a:latin typeface="Arial"/>
                <a:hlinkClick r:id="rId57"/>
              </a:rPr>
              <a:t>regexptut</a:t>
            </a:r>
            <a:r>
              <a:rPr b="0" lang="hr-HR" sz="2400" spc="-1" strike="noStrike" u="sng">
                <a:solidFill>
                  <a:srgbClr val="009999"/>
                </a:solidFill>
                <a:uFillTx/>
                <a:latin typeface="Arial"/>
                <a:hlinkClick r:id="rId58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 u="sng">
                <a:solidFill>
                  <a:srgbClr val="009999"/>
                </a:solidFill>
                <a:uFillTx/>
                <a:latin typeface="Arial"/>
                <a:hlinkClick r:id="rId59"/>
              </a:rPr>
              <a:t>http://gnosis.cx/publish/programming/regular_expressions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 u="sng">
                <a:solidFill>
                  <a:srgbClr val="009999"/>
                </a:solidFill>
                <a:uFillTx/>
                <a:latin typeface="Arial"/>
                <a:hlinkClick r:id="rId60"/>
              </a:rPr>
              <a:t>http://codeproject.com/dotnet/RegexTutorial.a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437C6-4779-446E-9D5C-403A66C3D052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3300"/>
                </a:solidFill>
                <a:latin typeface="Arial"/>
              </a:rPr>
              <a:t>Pomoć na Mreži</a:t>
            </a: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ular Expressions Test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forta.com/books/0672325667/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Biblioteka regularnih izraza, s tester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regexlib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3AF1E-715B-44C0-9041-652913452E5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5T11:26:01Z</dcterms:created>
  <dc:creator>Ana</dc:creator>
  <dc:description/>
  <dc:language>en-US</dc:language>
  <cp:lastModifiedBy>Zoran Dzelajlija</cp:lastModifiedBy>
  <dcterms:modified xsi:type="dcterms:W3CDTF">2006-02-27T05:25:17Z</dcterms:modified>
  <cp:revision>179</cp:revision>
  <dc:subject/>
  <dc:title>Sigurnosna politika</dc:title>
</cp:coreProperties>
</file>