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1B6-49A4-4997-94CE-BF09FC3D62B7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vaki regexp se sastoji od niza podizra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Rr]eg[Ee]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Rr] – prvi podizraz, ako postoji poklapanje na trenutnom mjestu u nizu, za sljedeći znak u nizu se provjerava podudaranje sa sljedećim podizraz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 – ovo je isto podizraz, koji se podudara sa doslovnim slovo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 – ovo je isto podizra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Ee] – sljedeći podizr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 – posljednji podizr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koliko se primijeti nepodudaranje, pokušava se sljedeća alternativa ukoliko postoji.  Ako su alternative iscrpljene, uparivanje počinje iznova od početka regexpa, i od sljedećeg znaka u nizu u odnosu na prethodni znak u nizu kod kojeg je počelo uparivanje.  Primjer, uparivanje n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razni regexpi" i regexpa "[Rr]eg[3Ee]x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činjemo s početkom regexpa i početkom n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Prijelaz na sljedeći izraz, u spremniku ostaju "azni regexpi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e se ne uparuje sa "a". S obzirom da nema alternativ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drugo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ne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S obzirom da nema alternativ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treće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ne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sedmo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eg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e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g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g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3Ee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x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raj regexpa, izraz je uspješno uparen sa podnizom "regex" unutar "razni </a:t>
            </a:r>
            <a:r>
              <a:rPr b="0" lang="hr-HR" sz="1200" spc="-1" strike="noStrike" u="sng">
                <a:solidFill>
                  <a:srgbClr val="000000"/>
                </a:solidFill>
                <a:uFillTx/>
                <a:latin typeface="Arial"/>
              </a:rPr>
              <a:t>regex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"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EDB4-E4A1-42C4-A478-D9132F264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1612-3F20-42F9-9F19-94CFA479E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CAC2-E9F9-4B95-A3D3-8AA60BA04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9816-15C0-4CCB-AC0B-441F6684D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C264-F029-402B-B39C-9B5D5E58F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9B60-C1F0-47D4-8637-208739404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762D-99B2-4A6D-A9FC-417949503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1493-5560-40B9-ABBF-896D97D31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A78C-CAB3-49A0-B257-A77B2DC05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E1D0-5D17-4FB1-8FDD-0C3C60206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24C6-260B-4F7F-9063-6994BEFEE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D85E-74F5-45C5-A121-EEDD167EC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-968400" y="-1357200"/>
            <a:ext cx="4546800" cy="468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55760" y="6431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308640"/>
            <a:ext cx="8353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12920" y="6353280"/>
            <a:ext cx="917280" cy="312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14640" y="63532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6F3-707A-4CCB-A5AE-410859EDBC87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d.sf.net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egex.ifzg.hr/primjeri/mail.log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mailto:korisnik@domena.hr" TargetMode="Externa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virusalert@po.os.carnet.hr" TargetMode="External"/><Relationship Id="rId2" Type="http://schemas.openxmlformats.org/officeDocument/2006/relationships/hyperlink" Target="mailto:virusalert@po.os.carnet.hr" TargetMode="External"/><Relationship Id="rId3" Type="http://schemas.openxmlformats.org/officeDocument/2006/relationships/hyperlink" Target="mailto:virusalert@po.os.carnet.hr" TargetMode="External"/><Relationship Id="rId4" Type="http://schemas.openxmlformats.org/officeDocument/2006/relationships/hyperlink" Target="mailto:relay%3Dsmmsp@localhost.os.carnet.hr" TargetMode="External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regular-expressions.info/quickstart.html" TargetMode="External"/><Relationship Id="rId2" Type="http://schemas.openxmlformats.org/officeDocument/2006/relationships/hyperlink" Target="http://www.regular-expressions.info/quickstart.html" TargetMode="External"/><Relationship Id="rId3" Type="http://schemas.openxmlformats.org/officeDocument/2006/relationships/hyperlink" Target="http://www.regular-expressions.info/quickstart.html" TargetMode="External"/><Relationship Id="rId4" Type="http://schemas.openxmlformats.org/officeDocument/2006/relationships/hyperlink" Target="http://www.regular-expressions.info/quickstart.html" TargetMode="External"/><Relationship Id="rId5" Type="http://schemas.openxmlformats.org/officeDocument/2006/relationships/hyperlink" Target="http://www.regular-expressions.info/quickstart.html" TargetMode="External"/><Relationship Id="rId6" Type="http://schemas.openxmlformats.org/officeDocument/2006/relationships/hyperlink" Target="http://www.regular-expressions.info/quickstart.html" TargetMode="External"/><Relationship Id="rId7" Type="http://schemas.openxmlformats.org/officeDocument/2006/relationships/hyperlink" Target="http://www.regular-expressions.info/quickstart.html" TargetMode="External"/><Relationship Id="rId8" Type="http://schemas.openxmlformats.org/officeDocument/2006/relationships/hyperlink" Target="http://www.regular-expressions.info/quickstart.html" TargetMode="External"/><Relationship Id="rId9" Type="http://schemas.openxmlformats.org/officeDocument/2006/relationships/hyperlink" Target="http://www.regular-expressions.info/quickstart.html" TargetMode="External"/><Relationship Id="rId10" Type="http://schemas.openxmlformats.org/officeDocument/2006/relationships/hyperlink" Target="http://en.wikipedia.org/wiki/Regular_expression" TargetMode="External"/><Relationship Id="rId11" Type="http://schemas.openxmlformats.org/officeDocument/2006/relationships/hyperlink" Target="http://en.wikipedia.org/wiki/Regular_expression" TargetMode="External"/><Relationship Id="rId12" Type="http://schemas.openxmlformats.org/officeDocument/2006/relationships/hyperlink" Target="http://en.wikipedia.org/wiki/Regular_expression" TargetMode="External"/><Relationship Id="rId13" Type="http://schemas.openxmlformats.org/officeDocument/2006/relationships/hyperlink" Target="http://en.wikipedia.org/wiki/Regular_expression" TargetMode="External"/><Relationship Id="rId14" Type="http://schemas.openxmlformats.org/officeDocument/2006/relationships/hyperlink" Target="http://en.wikipedia.org/wiki/Regular_expression" TargetMode="External"/><Relationship Id="rId15" Type="http://schemas.openxmlformats.org/officeDocument/2006/relationships/hyperlink" Target="http://en.wikipedia.org/wiki/Regular_expression" TargetMode="External"/><Relationship Id="rId16" Type="http://schemas.openxmlformats.org/officeDocument/2006/relationships/hyperlink" Target="http://en.wikipedia.org/wiki/Regular_expression" TargetMode="External"/><Relationship Id="rId17" Type="http://schemas.openxmlformats.org/officeDocument/2006/relationships/hyperlink" Target="http://en.wikipedia.org/wiki/Regular_expression" TargetMode="External"/><Relationship Id="rId18" Type="http://schemas.openxmlformats.org/officeDocument/2006/relationships/hyperlink" Target="http://en.wikipedia.org/wiki/Regular_expression" TargetMode="External"/><Relationship Id="rId19" Type="http://schemas.openxmlformats.org/officeDocument/2006/relationships/hyperlink" Target="http://en.wikipedia.org/wiki/Regular_expression" TargetMode="External"/><Relationship Id="rId20" Type="http://schemas.openxmlformats.org/officeDocument/2006/relationships/hyperlink" Target="http://sitescooper.org/tao_regexps.html" TargetMode="External"/><Relationship Id="rId21" Type="http://schemas.openxmlformats.org/officeDocument/2006/relationships/hyperlink" Target="http://sitescooper.org/tao_regexps.html" TargetMode="External"/><Relationship Id="rId22" Type="http://schemas.openxmlformats.org/officeDocument/2006/relationships/hyperlink" Target="http://sitescooper.org/tao_regexps.html" TargetMode="External"/><Relationship Id="rId23" Type="http://schemas.openxmlformats.org/officeDocument/2006/relationships/hyperlink" Target="http://sitescooper.org/tao_regexps.html" TargetMode="External"/><Relationship Id="rId24" Type="http://schemas.openxmlformats.org/officeDocument/2006/relationships/hyperlink" Target="http://sitescooper.org/tao_regexps.html" TargetMode="External"/><Relationship Id="rId25" Type="http://schemas.openxmlformats.org/officeDocument/2006/relationships/hyperlink" Target="http://sitescooper.org/tao_regexps.html" TargetMode="External"/><Relationship Id="rId26" Type="http://schemas.openxmlformats.org/officeDocument/2006/relationships/hyperlink" Target="http://sitescooper.org/tao_regexps.html" TargetMode="External"/><Relationship Id="rId27" Type="http://schemas.openxmlformats.org/officeDocument/2006/relationships/hyperlink" Target="http://sitescooper.org/tao_regexps.html" TargetMode="External"/><Relationship Id="rId28" Type="http://schemas.openxmlformats.org/officeDocument/2006/relationships/hyperlink" Target="http://sitescooper.org/tao_regexps.html" TargetMode="External"/><Relationship Id="rId29" Type="http://schemas.openxmlformats.org/officeDocument/2006/relationships/hyperlink" Target="http://www.amk.ca/python/howto/regex/" TargetMode="External"/><Relationship Id="rId30" Type="http://schemas.openxmlformats.org/officeDocument/2006/relationships/hyperlink" Target="http://www.amk.ca/python/howto/regex/" TargetMode="External"/><Relationship Id="rId31" Type="http://schemas.openxmlformats.org/officeDocument/2006/relationships/hyperlink" Target="http://www.amk.ca/python/howto/regex/" TargetMode="External"/><Relationship Id="rId32" Type="http://schemas.openxmlformats.org/officeDocument/2006/relationships/hyperlink" Target="http://www.amk.ca/python/howto/regex/" TargetMode="External"/><Relationship Id="rId33" Type="http://schemas.openxmlformats.org/officeDocument/2006/relationships/hyperlink" Target="http://www.amk.ca/python/howto/regex/" TargetMode="External"/><Relationship Id="rId34" Type="http://schemas.openxmlformats.org/officeDocument/2006/relationships/hyperlink" Target="http://www.amk.ca/python/howto/regex/" TargetMode="External"/><Relationship Id="rId35" Type="http://schemas.openxmlformats.org/officeDocument/2006/relationships/hyperlink" Target="http://www.amk.ca/python/howto/regex/" TargetMode="External"/><Relationship Id="rId36" Type="http://schemas.openxmlformats.org/officeDocument/2006/relationships/hyperlink" Target="http://www.amk.ca/python/howto/regex/" TargetMode="External"/><Relationship Id="rId37" Type="http://schemas.openxmlformats.org/officeDocument/2006/relationships/hyperlink" Target="http://www.amk.ca/python/howto/regex/" TargetMode="External"/><Relationship Id="rId38" Type="http://schemas.openxmlformats.org/officeDocument/2006/relationships/hyperlink" Target="http://ruddo.com/projects/wp-search-replace/wp-search-replace-regexptut/" TargetMode="External"/><Relationship Id="rId39" Type="http://schemas.openxmlformats.org/officeDocument/2006/relationships/hyperlink" Target="http://ruddo.com/projects/wp-search-replace/wp-search-replace-regexptut/" TargetMode="External"/><Relationship Id="rId40" Type="http://schemas.openxmlformats.org/officeDocument/2006/relationships/hyperlink" Target="http://ruddo.com/projects/wp-search-replace/wp-search-replace-regexptut/" TargetMode="External"/><Relationship Id="rId41" Type="http://schemas.openxmlformats.org/officeDocument/2006/relationships/hyperlink" Target="http://ruddo.com/projects/wp-search-replace/wp-search-replace-regexptut/" TargetMode="External"/><Relationship Id="rId42" Type="http://schemas.openxmlformats.org/officeDocument/2006/relationships/hyperlink" Target="http://ruddo.com/projects/wp-search-replace/wp-search-replace-regexptut/" TargetMode="External"/><Relationship Id="rId43" Type="http://schemas.openxmlformats.org/officeDocument/2006/relationships/hyperlink" Target="http://ruddo.com/projects/wp-search-replace/wp-search-replace-regexptut/" TargetMode="External"/><Relationship Id="rId44" Type="http://schemas.openxmlformats.org/officeDocument/2006/relationships/hyperlink" Target="http://ruddo.com/projects/wp-search-replace/wp-search-replace-regexptut/" TargetMode="External"/><Relationship Id="rId45" Type="http://schemas.openxmlformats.org/officeDocument/2006/relationships/hyperlink" Target="http://ruddo.com/projects/wp-search-replace/wp-search-replace-regexptut/" TargetMode="External"/><Relationship Id="rId46" Type="http://schemas.openxmlformats.org/officeDocument/2006/relationships/hyperlink" Target="http://ruddo.com/projects/wp-search-replace/wp-search-replace-regexptut/" TargetMode="External"/><Relationship Id="rId47" Type="http://schemas.openxmlformats.org/officeDocument/2006/relationships/hyperlink" Target="http://ruddo.com/projects/wp-search-replace/wp-search-replace-regexptut/" TargetMode="External"/><Relationship Id="rId48" Type="http://schemas.openxmlformats.org/officeDocument/2006/relationships/hyperlink" Target="http://ruddo.com/projects/wp-search-replace/wp-search-replace-regexptut/" TargetMode="External"/><Relationship Id="rId49" Type="http://schemas.openxmlformats.org/officeDocument/2006/relationships/hyperlink" Target="http://ruddo.com/projects/wp-search-replace/wp-search-replace-regexptut/" TargetMode="External"/><Relationship Id="rId50" Type="http://schemas.openxmlformats.org/officeDocument/2006/relationships/hyperlink" Target="http://ruddo.com/projects/wp-search-replace/wp-search-replace-regexptut/" TargetMode="External"/><Relationship Id="rId51" Type="http://schemas.openxmlformats.org/officeDocument/2006/relationships/hyperlink" Target="http://ruddo.com/projects/wp-search-replace/wp-search-replace-regexptut/" TargetMode="External"/><Relationship Id="rId52" Type="http://schemas.openxmlformats.org/officeDocument/2006/relationships/hyperlink" Target="http://ruddo.com/projects/wp-search-replace/wp-search-replace-regexptut/" TargetMode="External"/><Relationship Id="rId53" Type="http://schemas.openxmlformats.org/officeDocument/2006/relationships/hyperlink" Target="http://ruddo.com/projects/wp-search-replace/wp-search-replace-regexptut/" TargetMode="External"/><Relationship Id="rId54" Type="http://schemas.openxmlformats.org/officeDocument/2006/relationships/hyperlink" Target="http://ruddo.com/projects/wp-search-replace/wp-search-replace-regexptut/" TargetMode="External"/><Relationship Id="rId55" Type="http://schemas.openxmlformats.org/officeDocument/2006/relationships/hyperlink" Target="http://ruddo.com/projects/wp-search-replace/wp-search-replace-regexptut/" TargetMode="External"/><Relationship Id="rId56" Type="http://schemas.openxmlformats.org/officeDocument/2006/relationships/hyperlink" Target="http://ruddo.com/projects/wp-search-replace/wp-search-replace-regexptut/" TargetMode="External"/><Relationship Id="rId57" Type="http://schemas.openxmlformats.org/officeDocument/2006/relationships/hyperlink" Target="http://ruddo.com/projects/wp-search-replace/wp-search-replace-regexptut/" TargetMode="External"/><Relationship Id="rId58" Type="http://schemas.openxmlformats.org/officeDocument/2006/relationships/hyperlink" Target="http://ruddo.com/projects/wp-search-replace/wp-search-replace-regexptut/" TargetMode="External"/><Relationship Id="rId59" Type="http://schemas.openxmlformats.org/officeDocument/2006/relationships/hyperlink" Target="http://gnosis.cx/publish/programming/regular_expressions.html" TargetMode="External"/><Relationship Id="rId60" Type="http://schemas.openxmlformats.org/officeDocument/2006/relationships/hyperlink" Target="http://codeproject.com/dotnet/RegexTutorial.asp" TargetMode="External"/><Relationship Id="rId6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orta.com/books/0672325667/" TargetMode="External"/><Relationship Id="rId2" Type="http://schemas.openxmlformats.org/officeDocument/2006/relationships/hyperlink" Target="http://www.regexlib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oran Dželajlija &amp; Aco Dmitr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E2DA-6047-4F7D-B6CE-6B0C68F51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aks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ate problem? Npr. ne znate koliko je programskih paketa instalirano na poslužitel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 li se brzo riješiti uz pomoć 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dpk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| grep -c ‘^i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je paketa instalirano, ali nije konfigurir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dpkg -l | grep ‘^i’ | grep -v -c ‘^i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dpkg -l | grep ‘^i[^i]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je paketa deinstalirano, ali je konfiguracija j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dpk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| grep -c ‘^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E99F-C1DB-4D54-A35F-3982A6B9E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gularni izraz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finicija: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“predložak koji služi za označavanje ili odabir određenog niza znakova unutar većeg teks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pis u obliku niza znakova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ecijaliziran jezik, s vlastitom sintaksom i nared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61F0-79D6-4D26-B8FE-9F9075FF8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Čemu služe RI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sparivanje i obradu tekst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nipulate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e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raživanje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ndar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nekom nizu unutar programskog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mjena (search &amp;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lac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DBEB-9400-4821-84B8-7892E2B12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dje nabaviti RI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i nisu samostojeći alat koji možete kupiti ili skinuti s Inter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up pravila ugrađenih u raznolik soft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gramske jez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na okru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B50E-AB18-4409-9D31-7E67FBB0F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rste 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i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gular expression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 mogućnosti slične izvornim 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d, grep na Unix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šireni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regular expression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 podizrazi, dodaci za ponavljanje i iz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–E, većina alata i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datna proširenja, npr. Perl 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l,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C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ibrary, Python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du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C09B-5C90-48F8-A8F1-34663AB7A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egular Expression 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Regular Expression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ix alat za pretraživanje teksta po datotekama ili na standardnom ulazu (std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a namjena je prikaz redaka koji odgovaraju navedenom 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800" spc="-1" strike="noStrike">
                <a:solidFill>
                  <a:srgbClr val="000000"/>
                </a:solidFill>
                <a:latin typeface="Lucida Console"/>
              </a:rPr>
              <a:t>ps -fe | grep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E294-1CD2-455E-B8AC-687C0F4F5F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Otkud ime grep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Wikipe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redba z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povijesno standardni uređivač teksta na Unix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/re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ži globalno retke koji se podudaraju sa regularnim izrazom re i ispiši i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CD2B-EF8C-4116-98DD-9A00CFB3C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eam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osnovni regularni izr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lovne naredbe kao u povijesnom standardnom editoru na Unixu “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e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ična primjena u unix ljusci je pi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nekakav_ulaz | sed ’s/nesto/nesto drugo/’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d.sf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9E86-D901-4150-84BD-ACC3F3CD7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i programski jezik, sa varijablama i složenom sintak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xtended 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građeno dijeljenje ulaznih podataka po stupc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ični onel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route -n | awk ’{print $2}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F02-99F2-46BA-BDFB-38ACD0083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erl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leksni skriptni je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ceduralno ili objektno program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noštvo ugrađenih tipova podataka (liste, nizovi, asocijativne tablice (hash), reference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ntaksa za RI ugrađena u jezik, poznati konstrukti iz seda i awka, npr.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foo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traz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ijen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ldoc perlop, perldoc perl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^/&gt; / if (/^$/ .. eof()); # quot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2F7B-C380-412C-8A56-59AEFF33A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Drugovi </a:t>
            </a:r>
            <a:r>
              <a:rPr b="0" lang="hr-HR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nko Koru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eljko Bor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denko Škil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ix Guru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Ž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Zd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U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0A65-6FE5-42DA-9FFB-40A2702096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aznolikos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čin korištenja se razlikuje od alata do a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e mogućnosti, ovisno o vrsti i konkretnoj implement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će suptilne (dijalektalne) raz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pr.: mawk (Debian default), GNU awk i Solaris awk imaju različite moguć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 oni se pak razlikuju od sed-a, GNU grepa ili sistemskog grepa na nekom Unix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nux instalacije imaju GNU alate sa dodanim mogućnostima – oprez ako kod treba biti portabi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C21E-AF30-4886-8778-6166CA60E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aznolikos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na problema ima više ispravnih rje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a su br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uga jednostav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a su prenosiva i rade na različitim varijantama alata, ili u drugim ala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o i za sve na Unixu, potrebno je istražiti stvarne mogućnosti – ništa bez RTFM i samostalnog isproba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ježba, vježba, vježb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0DC1-B2B4-450F-827C-2A8D9740C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Uzorak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spariv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 definira uzorak, koji se uparuje s teks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attern &amp; match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: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 koji se sastoji od pojave regularnog izraza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eposredno iza izraza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ekst: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Riba ribi grize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96FB-65E5-499F-BA3E-7EB734712D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ariv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</a:t>
            </a:r>
            <a:br>
              <a:rPr sz="2400"/>
            </a:b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izrazi koji se podudaraju sa doslovnim zna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složeni regularni 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jeni regularni izraz se podudara ako se svaki jednostavni RI redom podudara sa uzastopnim dijelovima n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značeni podnizovi se podudaraju sa izrazom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Rib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bi g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ze r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razlikuje mala i velika slov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case sensitive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regex takođ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sključuje razlikovanje (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case insensiti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ženje RI sastavljenog od doslovnih znako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–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lignjun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recepti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awk ’/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lignjun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i’ recepti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17B7-2357-465E-B9CA-D53D75F8F0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oliko pogodaka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na alata podrazumijevano barata samo s prvim pogod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kidač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global) vraća niz koji sadrži sve pogotke iz pojedinog retka odn.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tpostavljen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lob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d, perl: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jena/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: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jena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F9CF-53EA-42DD-82D5-DEF772ED1A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 Tubular Bells Part 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 Tubular Bells Part 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 | sed ’s/ /_/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_Tubular Bells Part 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_Tubular Bells Part 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 | sed ’s/ /_/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_Tubular_Bells_Part_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_Tubular_Bells_Part_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DC17-A56D-4D84-AD1D-1CF6119DB8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ff3300"/>
                </a:solidFill>
                <a:uFillTx/>
                <a:latin typeface="Arial"/>
              </a:rPr>
              <a:t>Proizvoljni znak – </a:t>
            </a:r>
            <a:r>
              <a:rPr b="0" lang="hr-HR" sz="4400" spc="-1" strike="noStrike" u="sng">
                <a:solidFill>
                  <a:srgbClr val="ff3300"/>
                </a:solidFill>
                <a:uFillTx/>
                <a:latin typeface="Lucida Console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točka) zamjenjuje bilo koji, ali točno jedan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ispisuje cijeli redak u kojem je nađen traženi uzo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</a:t>
            </a:r>
            <a:r>
              <a:rPr b="0" lang="hr-HR" sz="2000" spc="-1" strike="noStrike">
                <a:solidFill>
                  <a:srgbClr val="808080"/>
                </a:solidFill>
                <a:latin typeface="Lucida Console"/>
                <a:ea typeface="Courier New"/>
              </a:rPr>
              <a:t>lignj.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sta kupujes. Lignja je skupa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u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 je jef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a tom smijesom napun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 Kad si ih napu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ko ne nema vez uli malo ulja i prepec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BC42-3D9A-4D90-846C-F61819E0B3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Citiranje – metaznak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\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ako tražimo upravo znak ”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 (točku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\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odan ispred, mijenja značenje metaznaka u običan znak (engl. esc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a\.xl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naplat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a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a\.xl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napla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ta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k koji ima drugo značenje od doslovnog nazivamo metaz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B719-D814-4AB8-92BA-B8A3AD97F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odudaranje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lignj.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sta kupujes. Lignja je skupa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u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 je jef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a tom smijesom napun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 Kad si ih napu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ko ne nema vez uli malo ulja i prepec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ep zapravno ne podcrtava, kako znati što je zapravo upar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E565-000A-40D7-AD00-D5033E34B1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odudaranje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ep -o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–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vraća upravo niz koji se podu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–o lignj.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echo ”Rib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i g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ze rep.” | grep –o 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echo ”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i g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ze rep.” | grep –io 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C429-C5A2-4F44-A0F1-2719D3FF05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a sinta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blemi iz stvarnog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5D86-477A-4619-A6D7-CEAAAB59E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lati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uporaba: datoteka ili pipe (std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s -1 /etc/apache/conf.d &gt;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 grep php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Lucida Console"/>
              </a:rPr>
              <a:t># 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s -1 /etc/apache/conf.d | grep 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F588-058D-4FBB-A403-0A894701FC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osnovni regularni izrazi (grep -G) – pretpostavljeno ponaš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gre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rošireni regularni izrazi (grep -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-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kompatibilnost sa Perlovim RI (nije uobičajeno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bilo kakve složenije izraze koristi se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A484-B978-4AB0-8109-FD64F421A8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Digresija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– problemi sa shello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oće li regex: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.\..\.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onaći datoteku s nazivom dopis.txt.gp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oretski, ne bi trebao, al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$ ls | grep .\..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FB4A-5F5F-4996-B193-B33B8B9003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oblemi sa shello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čemu je greška? Unix shell interpretira znakove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]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i se koriste i u 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 treba staviti u navodn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ls | grep '.\..\.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ne nalazi ništa, kao što je i očekivano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ls | grep '.\....\.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dopi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s.txt.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72B9-D01A-4B08-B3FD-5A07873C32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očet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retka: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: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.u.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bur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qu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vjerite sa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grep -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: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.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raznim nizom na početku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^.u.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bur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e podudara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qui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5847-5718-442E-A151-53695676C9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Metaznakov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j retk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no, $ uparu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azan niz na kraju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grep conf$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359A-57DA-4932-9E6D-70A1F46219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519408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n.*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.dpkg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.dpkg-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1800" spc="-1" strike="noStrike">
                <a:solidFill>
                  <a:srgbClr val="000000"/>
                </a:solidFill>
                <a:latin typeface="Lucida Console"/>
              </a:rPr>
              <a:t>grep '^n.*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\.conf$' popis 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i="1" lang="hr-HR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azi na toč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186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a sve primjere za 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robajte dodati i 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-o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opcij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CC67-2D0E-4073-9250-F0E61D5F5D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Metaznakov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ni i sami za s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mjesto početka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mjesto kraja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zajedno, poklapaju se samo za prazan red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baciti sve prazne retke iz datote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–v '^$' 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D4EF-4908-4D51-AE41-793B3E002E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klase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[]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bc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vom mjest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ije biti znak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a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i: veliko ili malo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zatim još jedan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-z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či: bilo koje malo englesko sl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-zA-Z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-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či: bilo koje malo ili veliko slovo ili cr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Rr]eg[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3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Ee]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podudara sa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, “regEx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67B9-DBEE-4819-B824-929D65B824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: primje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grep '[kgh]'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.dpkg-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'[A-Z]'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EADJ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grep '[.]old' popis </a:t>
            </a:r>
            <a:r>
              <a:rPr b="1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isto kao '\.ol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405F-0DA1-4AF5-9096-EB28675CA1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3300"/>
                </a:solidFill>
                <a:latin typeface="Arial"/>
              </a:rPr>
              <a:t>Ab ov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li 50-tih god. kao formalno sredstvo za opis sintakse programskih jezika (Computer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arni izraz  (RI) je mogao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an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zni string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paj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va regularna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I1 RI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tj. RI1 za kojim slijedi R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Unij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va regularna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1 | RI2 – RI1 ili R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eenova zvijeda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* - 0 ili više ponavljanja prethodnog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7A0D-BBD0-44F7-8291-27B8F28448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 – postojeće krati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0-9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či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lo koja znamenka, 0 do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tice za uobičaj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] podiz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to kao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[0-9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i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[a-zA-Z0-9.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 characte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č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nje ovisi o konkretnom alatu i o lokaliz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aznina (“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e”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razmak, tab, novi 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još ne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čka je unutar klase dosl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46D9-C0F8-4446-B91B-31FA81FF62F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nverzija klase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[^...]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^X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, osim “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^0-9a-fA-F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osim hex.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osim slova i broj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dudara se sve osim raz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tite različito značenje za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342D-B16B-46A2-966F-57ABCDC7F5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: primje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grep php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'php[^4]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.dpkg-tmp </a:t>
            </a:r>
            <a:r>
              <a:rPr b="1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i li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"index.php"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proš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cho Proba | grep '[A-Z]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cho Proba | grep '[^A-Z]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CB58-7A36-400A-A293-506C17ACA0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an, neobavezni, znak A (doslovn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ili 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onavljanje izra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0-9]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jedna, jedna ili v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0-9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]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 il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e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8DB3-6E91-4B2B-9223-659580C6DB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 s ponavljanje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ražimo datoteke sa dvije "ekstenzij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..\...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3.2.Ins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ller.exe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.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.i58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txt.o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2.0.18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1_i386.deb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grep -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..\....$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... a osta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AC7C-E62A-4856-A3CE-BF442D032C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*\..*$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3.2.Install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_5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8.0-3_incr.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0.6-1.i58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o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met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skey.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stit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ar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2.0.18-1_i386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quirrelmail-change-pass-cn_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_all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11D9-AB13-4506-B50B-A26578EF86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[^.]*\.[^.]*$'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više nije bilo koji 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.3.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Install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_5.8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0-3_incr.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.0.6-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i58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o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met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skey.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stit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ar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.2.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18-1_i386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quirrelmail-change-pass-cn_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_all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C927-CD5E-48A3-A02E-6169DDF24F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 –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{n}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aste zagrade: broj unutar zagrade znači broj ponavljanja prethodnog znaka/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aruje se sa točno n ponavljanja izraz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rem n ponavljanja izra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m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među n i m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5776-4168-4196-8E09-2A822D22A7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 –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{n}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{3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– "AA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\w{3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 slova ili zna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 -]{6,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rem 6 znamenki, razmaka ili c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kalni telefonski br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]{13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ivna provjera ispravnosti JMBG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o je pobol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]{1,4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jedna d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 znamen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F11A-4AA9-4CF1-B303-7AA6F61DD6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a: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'php4?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4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-o 'b*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-o 'b.+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Lucida Console"/>
              </a:rPr>
              <a:t>#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i telefonski brojevi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grep –o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'[[:digit:]]{6,10}'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etc/freeradradiusd.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23414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128875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12815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884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012345678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884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9C76-4E1E-4499-980F-27A3BD08D97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3300"/>
                </a:solidFill>
                <a:latin typeface="Arial"/>
              </a:rPr>
              <a:t>Ab ov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va implementacija je u izvornom editoru teksta na Unixu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snije u mnogim alatima: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grep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ed, fin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jezicim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erl, python, Java, .Net, JavaScri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gramima: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5FFA-6469-46FC-96BF-84C5C373D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 -o zadata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/var/log/mail.lo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zvući mail adrese nepostojećih lokalnih prim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rep –o za ispis samo bitnih niz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: ponekad treba više od jedne naredbe u pipe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 2: obrisati nepoželjne znakove sa tr –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jer sendmail loga:</a:t>
            </a:r>
            <a:br>
              <a:rPr sz="2400"/>
            </a:b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gex.ifzg.hr/primjeri/mail.l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E333-E606-4B03-856D-5A6389E6AC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 -o zadata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96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var/log/mail.l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vući mail adrese nepostojećih lokalnih prim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e 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-o '&lt;.*&gt;' | tr –d '&lt;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drie@oz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oilne@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drie@oz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jommy@zolost.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oilne@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ime_lacoc@nit.hr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, ctladdr=senje@ozfg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sa viškom iz zadnjeg ret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C840-4433-4166-988D-31714D9ECE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ed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ov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vijek pokušavaju pokupiti najdulji mogući niz, "pohlepni" 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grep '&lt;.*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Feb 14 09:55:55 filist sm-mta[23447]: k1E8akei024081: to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ime_lacoc@nit.hr&gt;, ctladdr=&lt;senje@ozgf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 (268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bjeć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  <a:ea typeface="Arial"/>
              </a:rPr>
              <a:t>.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konstrukci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'&lt;[^&gt;]*&gt;'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e osim "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&gt;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Feb 14 09:55:55 filist sm-mta[23447]: k1E8akei024081: to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ime_lacoc@nit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, ctladdr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senje@ozgf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 (268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..ali grep uvijek vraća sve pogotke u retk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4A19-03AE-4CD7-9898-E5BD1683B7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ed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ecizniji izra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–o 'to=&lt;[^&gt;]*&gt;' | tr –d '&lt;&gt;' | sed 's/to=//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ime_lacoc@nit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–o ' &lt;[^&gt;]*&gt;' | tr –d '&lt;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95E5-53FA-4558-9850-E9C4C7B969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Laz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rl, python, itd. ima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? 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ifikator dodan nakon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ijenja ponašanje iz "pohlepnosti" u "lijenos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 –ne 'print $1."\n" if /&lt;(.*)&gt;/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  <a:ea typeface="Arial"/>
              </a:rPr>
              <a:t>[..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 –ne 'print $1."\n" if /&lt;(.*?)&gt;/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  <a:ea typeface="Arial"/>
              </a:rPr>
              <a:t>[...]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66E7-1582-44FF-AF15-49486EA7493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Unija,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|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lternativni uzo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r|Miss|M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z se podudara sa kombiniranim izrazom ako se podudara sa bar jednim od iz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nost ima lijevi 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e implementacije uvijek nalaze najdulji izraz!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ome ćemo se vratiti kasnij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o je “extended” regular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sed i grep | ("štanga") je običan zna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(Mr|Miss|M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79F8-CCA0-48AC-958A-A6D7EBCACE9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(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nad</a:t>
            </a: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pod</a:t>
            </a: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)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na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udara se s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nadnaslov” ili “podnaslov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(burek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p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k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rekburekbur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li niš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^(\w+)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ak koji sadrži samo alfanumerike i toč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F388-4432-4D3C-80D0-AA5F1C09598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 s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d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l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taju definirane i kasnije u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....)\1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sc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424242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9nu 9n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''').*\1/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'''niz uokviren sa tri navodnika'''</a:t>
            </a:r>
            <a:br>
              <a:rPr sz="2400"/>
            </a:b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6420-12D9-4306-BE36-73C55C59567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upiranje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zacija izmjena u konfiguraciji Apache servera na 200 ustanova.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LanguagePriority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o: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LanguagePriority hr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(R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od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iz koji se podudario sa prvim zagrad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iz koji se podudario sa drugim podizrazom, ma kakav 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B562-A4FB-42A3-A89A-093E3D1B2B9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|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BF6B-0FB2-4F55-BA91-0D4190E32E3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ijevo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lovno: Pravilni izr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ER: Pravilni izrazi su širi poj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i su podskup pravilnih iz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raćeno: regex, PI, R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179C-5B8B-46D2-A418-37FAF6A89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 ponavljanja prethodnog znaka/izra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točno n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,m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među n i 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2C45-940E-49D2-9DB2-E653B1E20C4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rovjera mjest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nič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ruba riječi (početak ili kraj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unutar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l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četak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g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ij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head / lookbehi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m mjestu u tekstu se nalaz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ne smije bit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red ove pozicije se nalaz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u tekstu slijed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round ne "jede" znakove u tek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996E-5D62-4376-BED8-94D1B5242A6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kla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ame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va+znamke+to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kova iz \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mak, tab,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praz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kr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ne-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riage-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S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195560"/>
            <a:ext cx="4495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IX klase (GNU g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pha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digit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num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a i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blank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mak,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space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lank+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cntrl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ntrolni zna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graph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idljivi zna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rin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uključujuć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unc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koji nije slovo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a il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lower:], [:upper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xdigit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’^[[:upper:]]+$’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0A30-25CB-43FF-B305-9CC77AFD5F4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ntaksa za 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atanje 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m teksta u sed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/traži/zamijeni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search/replace u trenutnom re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y/ABCD/abcd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zamijenjuje znakove s lijeve strane onima s desne (slično kao naredba 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efektivno, brisanje 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i se označavaju sa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sa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pri čemu X može biti bilo koji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5E35-5D8C-4402-8B2A-F2E1F3C8CB7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d sed naredbe može biti uvjet (“adresa”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. Formaln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dresa[,adresa]] naredba [argument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^/#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slov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j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četak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 sa #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komentira svaki redak sa znakom 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0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zakomentiraj samo prvi re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0!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zakomentiraj sve osim prvog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[0-9]/!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komentira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 koji ne sadrže zna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va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redbe u istom retku, n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^[ \t]*//; s/[ \t]*$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39E9-FCDF-444A-B081-9AA50379505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RI/zamjen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mjenjuje prvu pojavu RI drug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vim, perl (awk: gs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^/&gt; /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daje quote “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&gt;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 na po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ifikat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g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mjenjuje svaki “foo” sa “bar”, ne samo prvi u ni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jenja FOO, foo i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78CC-21E4-4BB0-A162-AAEA949C358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1800" spc="-1" strike="noStrike">
                <a:solidFill>
                  <a:srgbClr val="000000"/>
                </a:solidFill>
                <a:latin typeface="Lucida Console"/>
              </a:rPr>
              <a:t>grep '^b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dpkg-...//'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zamijeni “niči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.*$/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$/.bak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dpkg-old.b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.*$/.bak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b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E686-B4D4-4221-932D-DB732C610DE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cd /etc/apache/conf.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ls -1 | </a:t>
            </a:r>
            <a:r>
              <a:rPr b="1" lang="hr-HR" sz="1600" spc="-1" strike="noStrike">
                <a:solidFill>
                  <a:srgbClr val="000000"/>
                </a:solidFill>
                <a:latin typeface="Lucida Console"/>
              </a:rPr>
              <a:t>grep –v '\.conf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DEADJ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ls -1 | grep –v '\.conf$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dpkg-...//'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zamijeni “niči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.*$/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$/.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dpkg-old.b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.*$/.bak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b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F122-E809-4DDB-84ED-046EE586072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254F-BA36-47C3-9B1B-31AF5FAFDCE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 s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d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l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taju definirane i kasnije u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....)\1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sc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424242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9nu 9n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''').*\1/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'''niz uokviren sa tri navodnika'''</a:t>
            </a:r>
            <a:br>
              <a:rPr sz="2400"/>
            </a:b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F5C4-6910-4F0F-848F-3A5CAB77FF7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mina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ime se nećemo bavi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iješću i teorij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voljni su lin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ime ćemo se bavi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su RI i kako vam mogu olakšati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use being admin is har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0F7B-16F6-4285-AD45-65029DA86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: automatizacija izmjena u konfiguraciji Apache servera na 200 ustan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ro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anguagePriority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o: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anguagePriority</a:t>
            </a:r>
            <a:r>
              <a:rPr b="0" i="1" lang="hr-HR" sz="2400" spc="-1" strike="noStrike">
                <a:solidFill>
                  <a:srgbClr val="333399"/>
                </a:solidFill>
                <a:latin typeface="Lucida Console"/>
              </a:rPr>
              <a:t> hr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(RI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pod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iz koji se podudario sa prvim zagrad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iz koji se podudario sa drugim podizrazom, ma kakav 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1DFA-558E-400C-A33D-0CA55204C48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...)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opcionalni pod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0 ili 1 po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BEA4-B99E-4672-8BB4-EAC31D1F46E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etc/apache/httpd.con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atoteci zamijenite sve AddType retke za .php i slične php ekstenzije sa AddHandler redc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ddType application/x-httpd-php 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ddType application/x-httpd-php-source .ph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datno, koristeći reference ostavite zakomentirani originalni redak iznad izmijenjen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79A6-7F3E-4655-B43B-415C4CB6A60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koje ste probleme naiš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ko drugačije riješ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BFAD-E62C-4C2A-A322-B292B20CFFC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sintak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uzorak] { naredba; naredba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uzorak2] { blok naredbi2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ako je ispunjen uvjet iz uzorka,  izvrši b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ebni uvje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EGIN {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 početku izvrš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ND {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 kraju ulazne datoteke, ili uz poziv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EGIN    {m=120; j=0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mp3$/   {m++; if (m &gt;= 500) {exit;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(jpg|jpeg)$/ {j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N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   {print "mp3ca: " m " jpegova: "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71AD-39E1-4D3B-8D57-3E2B94B1751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arni izraz se ograđuje s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.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građeno dijeljenje retka po stup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varijabla koja sadrži cijeli re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prvi, drugi, itd. stu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$NF – posljednji stup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sto korištene ugrađene varij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F – broj stupaca u trenutnom r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R – broj redaka do 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upci su pretpostavljeno odvojeni prazn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s –l | awk '{print $9}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suje devetu riječ u svakom retku – im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5E43-2170-4FDC-89BD-B9E9C7D25DA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jeti slični C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1 == "0.0.0.0" {print $2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1 ~ /RI/ {print $0; exi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8 != "eth0" &amp;&amp; $1 ~ /^161\.53\.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print "Cudna ruta " $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podudarnost sa regexpom, negacij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!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RI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bez ostalih oznaka provjerava cijeli re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mp3$/ { m++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datna konfiguracija putem posebnih varijabli, n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F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field separator, čime su odvojen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IGNORE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C755-0E0C-45CC-AE93-7911603C616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cat popis | awk '/b.*/'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amjena za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awk '/b.*/' popis      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amjena za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netstat –rn | awk '$1 == "0.0.0.0" {print $2}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spiše default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iptables –L | awk '/INPUT/, /^$/'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ao u s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spiše samo retke vezane za INPUT lan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3B98-4CC6-4D7F-8682-6B82143095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što radi ovaj izraz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`ls –al | grep string |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wk ‘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$9 !~ /^string/) {print $9}’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iše sve datoteke koje sadrže “string”, osim onih kod kojih je string na počet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će se dogoditi ako zamijenite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!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će se dogoditi ako neka datoteka ima razmak u ime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U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BCC3-AE10-4B9F-9FD2-9F465D2BEC3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 1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pišite RI koji će pronaći datume oblika: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dd.mm.ggg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e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dd.mm.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rez! Koristite graničnike \&lt;, \&gt;, \b da izraz ne pronađe datum tamo gdje ga zapravo 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293B-F485-4AF4-A3A7-1B11FFD82C0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Izvo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Linuxu, priruč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man 7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perldoc per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perldoc perl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6501-3703-4A65-8BB4-0A197D11F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tekstualnoj datoteci pronađite sve riječi koje se se ponavlj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: grep ne zna za reference, egrep 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D3A4-9FE8-44E2-9ED4-C6DDB62DFF9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pišite RI koji će pronaći tekst o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http://www.carne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zamijeniti ga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A HREF="http://www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carn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&gt;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carn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kušajte prvo pronaći dovoljno dobar RI za URL, pa zatim u njemu izdvojite srednji dio imena str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E943-112F-41E8-9EA2-5E4B1E51471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: JavaScrip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tak: spriječi unos LDAP korisničkog imena obl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snik.domena, forsiraj oblik korisnik@domena.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f (string.search(/^[A-Za-z0-9\-\_]+\.[A-Za-z0-9\-]+$/i) !=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  alert("'korisnik.domena' ne vrijedi. Koristite '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Lucida Console"/>
                <a:hlinkClick r:id="rId1"/>
              </a:rPr>
              <a:t>korisnik@domena.h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'"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ocument.imaplogin.imapuser.focus(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urn fals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 Ž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D953-D9AB-4504-9326-C491E25629A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: logchec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ak: spriječ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logchec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a bilježi ovakve poru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eb 14 10:00:01 po sm-mta[22624]: k1E9012X022624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1"/>
              </a:rPr>
              <a:t>&lt;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2"/>
              </a:rPr>
              <a:t>virusalert@po.os.carnet.h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3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ze=1779, class=0, nrcpts=1,msgid=&lt;VAk1E8i0jg011483@po&gt;, proto=ESMTP, daemon=MSA, 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4"/>
              </a:rPr>
              <a:t>relay=smmsp@localhost.os.carnet.h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127.0.0.1]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logcheck/violations.ignore.d/logcheck-sendma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^\w{3} [ :0-9]{11} [._[:alnum:]-]+ (sendmail|sm-(mta|msp|que))\[[0-9]+\]: [[:alnum:]]+: .*virusalert@po.os.carnet.hr.*$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Ž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3490-2619-4966-B881-C328C8FB70C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osnovni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grep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|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71D3-DB41-4938-9FC3-398879AAB09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onavlj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 ponavljanja prethodnog znaka/izra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1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n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m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među n i 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8529-825D-4D8A-9F42-AF6B7F13B25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rovjera mjest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nič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ruba riječi (početak ili kraj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unutar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l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četak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g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ij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head / lookbehi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m mjestu u tekstu se nalaz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ne smije bit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red ove pozicije se nalaz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u tekstu slijed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round ne "jede" znakove u tek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38D5-0999-47C3-8A19-BD8344EEDEB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kla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ame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va+znamke+to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kova iz \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mak, tab,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praz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kr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ne-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riage-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S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195560"/>
            <a:ext cx="4495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IX klase (GNU grep, 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pha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digit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num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a i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blank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mak,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space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lank+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cntrl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ntrolni zna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graph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idljivi zna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rin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uključujuć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unc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koji nije slovo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a il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lower:], [:upper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xdigit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’^[[:upper:]]+$’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F95C-C3F4-47B0-9CE1-C09F04A229A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Knjig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ostavni uv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Teach Yourself Regular Expressions in 10 Minu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B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0-672-32566-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ferenca /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pred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rey Friedl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stering Regular Expre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'Reilly, ISBN 05960028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7449-E914-42D6-99E6-0CA07CDE419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n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xpression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quickstart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en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ikipedia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org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iki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gula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_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itescoope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org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ta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_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gexp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www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mk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.ca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python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owt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regex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rudd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com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project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wp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search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place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p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search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place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regexptut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http://gnosis.cx/publish/programming/regular_expression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http://codeproject.com/dotnet/RegexTutorial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FE6-65ED-4F38-8C5E-1761DF49605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moć na Mrež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s Tes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orta.com/books/0672325667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blioteka regularnih izraza, s teste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gexlib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B621-755F-463F-877A-8A60312448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1:26:01Z</dcterms:created>
  <dc:creator>Ana</dc:creator>
  <dc:description/>
  <dc:language>en-US</dc:language>
  <cp:lastModifiedBy>Zoran Dzelajlija</cp:lastModifiedBy>
  <dcterms:modified xsi:type="dcterms:W3CDTF">2006-02-27T05:25:17Z</dcterms:modified>
  <cp:revision>179</cp:revision>
  <dc:subject/>
  <dc:title>Sigurnosna politika</dc:title>
</cp:coreProperties>
</file>